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2.png" ContentType="image/png"/>
  <Override PartName="/ppt/media/image23.png" ContentType="image/png"/>
  <Override PartName="/ppt/media/image30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31.png" ContentType="image/png"/>
  <Override PartName="/ppt/media/image25.gif" ContentType="image/gif"/>
  <Override PartName="/ppt/media/image2.gif" ContentType="image/gif"/>
  <Override PartName="/ppt/media/image32.gif" ContentType="image/gif"/>
  <Override PartName="/ppt/media/image29.png" ContentType="image/png"/>
  <Override PartName="/ppt/media/image6.gif" ContentType="image/gif"/>
  <Override PartName="/ppt/media/image36.gif" ContentType="image/gif"/>
  <Override PartName="/ppt/media/image3.gif" ContentType="image/gif"/>
  <Override PartName="/ppt/media/image41.png" ContentType="image/png"/>
  <Override PartName="/ppt/media/image45.gif" ContentType="image/gif"/>
  <Override PartName="/ppt/media/image48.png" ContentType="image/png"/>
  <Override PartName="/ppt/media/image10.gif" ContentType="image/gif"/>
  <Override PartName="/ppt/media/image46.gif" ContentType="image/gif"/>
  <Override PartName="/ppt/media/image11.gif" ContentType="image/gif"/>
  <Override PartName="/ppt/media/image14.png" ContentType="image/png"/>
  <Override PartName="/ppt/media/image42.gif" ContentType="image/gif"/>
  <Override PartName="/ppt/media/image35.png" ContentType="image/png"/>
  <Override PartName="/ppt/media/image43.gif" ContentType="image/gif"/>
  <Override PartName="/ppt/media/image47.png" ContentType="image/png"/>
  <Override PartName="/ppt/media/image40.wmf" ContentType="image/x-wmf"/>
  <Override PartName="/ppt/media/image44.gif" ContentType="image/gif"/>
  <Override PartName="/ppt/media/image49.jpeg" ContentType="image/jpeg"/>
  <Override PartName="/ppt/media/image50.gif" ContentType="image/gif"/>
  <Override PartName="/ppt/media/image13.gif" ContentType="image/gif"/>
  <Override PartName="/ppt/media/image39.gif" ContentType="image/gif"/>
  <Override PartName="/ppt/media/image9.gif" ContentType="image/gif"/>
  <Override PartName="/ppt/media/image38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37.gif" ContentType="image/gif"/>
  <Override PartName="/ppt/media/image5.gif" ContentType="image/gif"/>
  <Override PartName="/ppt/media/image28.gif" ContentType="image/gif"/>
  <Override PartName="/ppt/media/image33.jpeg" ContentType="image/jpeg"/>
  <Override PartName="/ppt/media/image34.gif" ContentType="image/gif"/>
  <Override PartName="/ppt/media/image4.gif" ContentType="image/gif"/>
  <Override PartName="/ppt/media/image2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FA6-86A0-4295-884E-E608F25C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519-FC09-4F13-B6AB-9989063D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B3B-1908-4C00-94D3-9A217BDF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890-244F-42F5-9257-9BC28F0D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91F2-1A2F-4C3A-B3A9-C46B23BA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4B1C-7515-474D-9400-9905A700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B6D9-54EB-4925-8F4E-312ED034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A9EE-82D3-4AA5-863E-D65249F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9014-A1D3-4311-97A0-09F0EDBF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D30E-59EA-4434-9C93-A4B3302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4E94-8303-419B-A462-49FB4ED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05C-7555-4BE2-B716-8AFC373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CD92-8E2C-4EA8-B3B5-06D1EBE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C9D7-1ADB-4CF5-A257-4EE2709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70E8-1BEC-4897-A713-B3E7C6E9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EA93-C69F-4DFA-BB4C-B81EA907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D88F-5070-4A28-B5D5-D7795998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FF71-6EEE-4C71-87ED-964DB0F6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95EC-E2D1-40CD-A8BC-5FF03BC6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8190-F183-4FB0-8BCB-F94AD6E3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15C2-CD4B-44E8-9EDD-7C6DB187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F967-9A4D-4FE2-B734-E7AD480C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A94-6D9E-4D3A-B778-51787E5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EE3E-9B41-4118-BBA0-93DEDC46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57D4-69A1-44E8-B594-9BA9D60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4ADE-C334-4BA8-A46B-F8F54122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772C-35D4-4DB5-9136-412291F0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D081-9DCE-45BC-B44C-BD2886A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1BA0-9D6C-42F2-A0E5-4EB725F4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605B-FAD0-482D-9A0B-8E29C99D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45D-413D-40DF-9A5C-96B9843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C56-833F-4AFD-9A50-2800946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51E-16B6-4CF8-99A8-C9190BAC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25E-2E54-4EC6-AA80-C411CD99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9DA-07A6-4750-BCD6-0E34147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F78-5FA7-4BF4-BB12-92A2819E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4498-A373-4E7C-B6BF-BD3E513AC1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F2AC-7469-49B5-9D1A-55B69FB3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51CE-3D7A-4D54-BB7B-6DE4D991D5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1FE6-4F4B-47AB-9D1A-6CA1EBB11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0A2E-A2CD-4936-A181-182C4971F9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C52-DC90-4A08-A251-5481ADC5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7.gif"/><Relationship Id="rId6" Type="http://schemas.openxmlformats.org/officeDocument/2006/relationships/image" Target="../media/image26.gif"/><Relationship Id="rId7" Type="http://schemas.openxmlformats.org/officeDocument/2006/relationships/image" Target="../media/image25.gif"/><Relationship Id="rId8" Type="http://schemas.openxmlformats.org/officeDocument/2006/relationships/image" Target="../media/image2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6.gif"/><Relationship Id="rId15" Type="http://schemas.openxmlformats.org/officeDocument/2006/relationships/image" Target="../media/image24.gif"/><Relationship Id="rId16" Type="http://schemas.openxmlformats.org/officeDocument/2006/relationships/image" Target="../media/image26.gif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10.gif"/><Relationship Id="rId9" Type="http://schemas.openxmlformats.org/officeDocument/2006/relationships/image" Target="../media/image29.png"/><Relationship Id="rId10" Type="http://schemas.openxmlformats.org/officeDocument/2006/relationships/image" Target="../media/image9.gif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17.png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image" Target="../media/image30.gif"/><Relationship Id="rId18" Type="http://schemas.openxmlformats.org/officeDocument/2006/relationships/image" Target="../media/image30.gif"/><Relationship Id="rId19" Type="http://schemas.openxmlformats.org/officeDocument/2006/relationships/image" Target="../media/image8.gif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image" Target="../media/image13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7.png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20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410000" y="2133720"/>
            <a:ext cx="1990800" cy="3962160"/>
          </a:xfrm>
          <a:custGeom>
            <a:avLst/>
            <a:gdLst/>
            <a:ahLst/>
            <a:rect l="l" t="t" r="r" b="b"/>
            <a:pathLst>
              <a:path w="1254" h="2496">
                <a:moveTo>
                  <a:pt x="73" y="1388"/>
                </a:moveTo>
                <a:cubicBezTo>
                  <a:pt x="74" y="1137"/>
                  <a:pt x="76" y="421"/>
                  <a:pt x="81" y="211"/>
                </a:cubicBezTo>
                <a:cubicBezTo>
                  <a:pt x="87" y="0"/>
                  <a:pt x="42" y="126"/>
                  <a:pt x="107" y="120"/>
                </a:cubicBezTo>
                <a:cubicBezTo>
                  <a:pt x="172" y="114"/>
                  <a:pt x="330" y="119"/>
                  <a:pt x="470" y="176"/>
                </a:cubicBezTo>
                <a:cubicBezTo>
                  <a:pt x="610" y="233"/>
                  <a:pt x="821" y="327"/>
                  <a:pt x="945" y="463"/>
                </a:cubicBezTo>
                <a:cubicBezTo>
                  <a:pt x="1069" y="599"/>
                  <a:pt x="1173" y="805"/>
                  <a:pt x="1213" y="991"/>
                </a:cubicBezTo>
                <a:cubicBezTo>
                  <a:pt x="1254" y="1177"/>
                  <a:pt x="1247" y="1399"/>
                  <a:pt x="1191" y="1583"/>
                </a:cubicBezTo>
                <a:cubicBezTo>
                  <a:pt x="1135" y="1767"/>
                  <a:pt x="997" y="1967"/>
                  <a:pt x="878" y="2096"/>
                </a:cubicBezTo>
                <a:cubicBezTo>
                  <a:pt x="759" y="2225"/>
                  <a:pt x="613" y="2305"/>
                  <a:pt x="478" y="2360"/>
                </a:cubicBezTo>
                <a:cubicBezTo>
                  <a:pt x="343" y="2415"/>
                  <a:pt x="138" y="2421"/>
                  <a:pt x="69" y="2424"/>
                </a:cubicBezTo>
                <a:cubicBezTo>
                  <a:pt x="0" y="2427"/>
                  <a:pt x="61" y="2496"/>
                  <a:pt x="61" y="2379"/>
                </a:cubicBezTo>
                <a:cubicBezTo>
                  <a:pt x="61" y="2262"/>
                  <a:pt x="70" y="1883"/>
                  <a:pt x="73" y="1718"/>
                </a:cubicBezTo>
                <a:cubicBezTo>
                  <a:pt x="76" y="1553"/>
                  <a:pt x="73" y="1641"/>
                  <a:pt x="73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971800"/>
            <a:ext cx="2109960" cy="3106800"/>
          </a:xfrm>
          <a:custGeom>
            <a:avLst/>
            <a:gdLst/>
            <a:ahLst/>
            <a:rect l="l" t="t" r="r" b="b"/>
            <a:pathLst>
              <a:path w="1329" h="1957">
                <a:moveTo>
                  <a:pt x="1162" y="1899"/>
                </a:moveTo>
                <a:cubicBezTo>
                  <a:pt x="1152" y="1957"/>
                  <a:pt x="1155" y="1909"/>
                  <a:pt x="1099" y="1899"/>
                </a:cubicBezTo>
                <a:cubicBezTo>
                  <a:pt x="1043" y="1889"/>
                  <a:pt x="914" y="1870"/>
                  <a:pt x="824" y="1840"/>
                </a:cubicBezTo>
                <a:cubicBezTo>
                  <a:pt x="734" y="1810"/>
                  <a:pt x="642" y="1765"/>
                  <a:pt x="561" y="1716"/>
                </a:cubicBezTo>
                <a:cubicBezTo>
                  <a:pt x="480" y="1667"/>
                  <a:pt x="396" y="1602"/>
                  <a:pt x="337" y="1545"/>
                </a:cubicBezTo>
                <a:cubicBezTo>
                  <a:pt x="278" y="1488"/>
                  <a:pt x="243" y="1430"/>
                  <a:pt x="205" y="1378"/>
                </a:cubicBezTo>
                <a:cubicBezTo>
                  <a:pt x="169" y="1327"/>
                  <a:pt x="146" y="1292"/>
                  <a:pt x="119" y="1235"/>
                </a:cubicBezTo>
                <a:cubicBezTo>
                  <a:pt x="93" y="1178"/>
                  <a:pt x="63" y="1122"/>
                  <a:pt x="45" y="1036"/>
                </a:cubicBezTo>
                <a:cubicBezTo>
                  <a:pt x="26" y="950"/>
                  <a:pt x="0" y="840"/>
                  <a:pt x="7" y="720"/>
                </a:cubicBezTo>
                <a:cubicBezTo>
                  <a:pt x="15" y="600"/>
                  <a:pt x="47" y="424"/>
                  <a:pt x="87" y="317"/>
                </a:cubicBezTo>
                <a:cubicBezTo>
                  <a:pt x="128" y="210"/>
                  <a:pt x="215" y="121"/>
                  <a:pt x="248" y="78"/>
                </a:cubicBezTo>
                <a:cubicBezTo>
                  <a:pt x="282" y="36"/>
                  <a:pt x="270" y="53"/>
                  <a:pt x="290" y="62"/>
                </a:cubicBezTo>
                <a:cubicBezTo>
                  <a:pt x="311" y="72"/>
                  <a:pt x="224" y="0"/>
                  <a:pt x="376" y="130"/>
                </a:cubicBezTo>
                <a:cubicBezTo>
                  <a:pt x="526" y="260"/>
                  <a:pt x="1063" y="721"/>
                  <a:pt x="1196" y="839"/>
                </a:cubicBezTo>
                <a:cubicBezTo>
                  <a:pt x="1329" y="957"/>
                  <a:pt x="1178" y="806"/>
                  <a:pt x="1174" y="839"/>
                </a:cubicBezTo>
                <a:cubicBezTo>
                  <a:pt x="1171" y="872"/>
                  <a:pt x="1176" y="921"/>
                  <a:pt x="1174" y="1040"/>
                </a:cubicBezTo>
                <a:cubicBezTo>
                  <a:pt x="1172" y="1159"/>
                  <a:pt x="1164" y="1409"/>
                  <a:pt x="1162" y="1552"/>
                </a:cubicBezTo>
                <a:cubicBezTo>
                  <a:pt x="1160" y="1695"/>
                  <a:pt x="1172" y="1841"/>
                  <a:pt x="1162" y="1899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572000" y="2361960"/>
            <a:ext cx="0" cy="19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42670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24382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943600" y="2971800"/>
            <a:ext cx="685800" cy="380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971800"/>
            <a:ext cx="19051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3657600"/>
            <a:ext cx="1752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5257800"/>
            <a:ext cx="685800" cy="5335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5791320"/>
            <a:ext cx="22096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51055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ygen r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psher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95880" y="3657240"/>
            <a:ext cx="762120" cy="228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3124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62320" y="4800240"/>
            <a:ext cx="761760" cy="3049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5105520"/>
            <a:ext cx="21337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4956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odinia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590560" y="5181480"/>
            <a:ext cx="685800" cy="457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5638680"/>
            <a:ext cx="23623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5105520"/>
            <a:ext cx="19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ul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00600" y="1828440"/>
            <a:ext cx="152280" cy="685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1828800"/>
            <a:ext cx="3733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137160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ceans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single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__ rich atmosphere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multi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continent Rhodinia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3124080"/>
          </a:xfrm>
          <a:prstGeom prst="rect">
            <a:avLst/>
          </a:prstGeom>
          <a:gradFill rotWithShape="0">
            <a:gsLst>
              <a:gs pos="0">
                <a:srgbClr val="9ebddb"/>
              </a:gs>
              <a:gs pos="100000">
                <a:srgbClr val="b9d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181480" y="5486400"/>
            <a:ext cx="3962520" cy="1371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gradFill rotWithShape="0">
            <a:gsLst>
              <a:gs pos="0">
                <a:srgbClr val="050505"/>
              </a:gs>
              <a:gs pos="100000">
                <a:srgbClr val="5f5f5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924680" y="3886200"/>
            <a:ext cx="990720" cy="1704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9296280" y="4343400"/>
            <a:ext cx="1600200" cy="958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514600" y="455436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2193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10667880" y="4114800"/>
            <a:ext cx="685800" cy="417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9144000" y="4114800"/>
            <a:ext cx="1066680" cy="639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9677520" y="3886200"/>
            <a:ext cx="685800" cy="411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1">
            <a:lum bright="-36000"/>
          </a:blip>
          <a:stretch/>
        </p:blipFill>
        <p:spPr>
          <a:xfrm rot="213000">
            <a:off x="10210320" y="4647960"/>
            <a:ext cx="838440" cy="511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3124080"/>
            <a:ext cx="9372600" cy="533520"/>
          </a:xfrm>
          <a:prstGeom prst="rect">
            <a:avLst/>
          </a:prstGeom>
          <a:gradFill rotWithShape="0">
            <a:gsLst>
              <a:gs pos="0">
                <a:srgbClr val="69b4ff">
                  <a:alpha val="87058"/>
                </a:srgbClr>
              </a:gs>
              <a:gs pos="100000">
                <a:srgbClr val="2540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 rot="18714000">
            <a:off x="9419040" y="6066360"/>
            <a:ext cx="74448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3"/>
          <a:stretch/>
        </p:blipFill>
        <p:spPr>
          <a:xfrm rot="18713400">
            <a:off x="9938160" y="5758560"/>
            <a:ext cx="511200" cy="576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>
            <a:off x="6400800" y="5257800"/>
            <a:ext cx="1295280" cy="1249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5"/>
          <a:stretch/>
        </p:blipFill>
        <p:spPr>
          <a:xfrm>
            <a:off x="3962520" y="4724280"/>
            <a:ext cx="990360" cy="17049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6"/>
          <a:stretch/>
        </p:blipFill>
        <p:spPr>
          <a:xfrm>
            <a:off x="304920" y="5246640"/>
            <a:ext cx="1295280" cy="1249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05740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se animals included trilobi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onites (squid like creatures with sh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le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9907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leozoic Era witnessed an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hallow seas covered most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477120" y="304920"/>
            <a:ext cx="2743200" cy="2743200"/>
            <a:chOff x="6477120" y="304920"/>
            <a:chExt cx="2743200" cy="2743200"/>
          </a:xfrm>
        </p:grpSpPr>
        <p:pic>
          <p:nvPicPr>
            <p:cNvPr id="314" name="" descr=""/>
            <p:cNvPicPr/>
            <p:nvPr/>
          </p:nvPicPr>
          <p:blipFill>
            <a:blip r:embed="rId17"/>
            <a:stretch/>
          </p:blipFill>
          <p:spPr>
            <a:xfrm>
              <a:off x="6477120" y="304920"/>
              <a:ext cx="2743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778880" y="444240"/>
              <a:ext cx="120888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09320" y="947880"/>
              <a:ext cx="119808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825320" y="583200"/>
              <a:ext cx="0" cy="1162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60560" y="1746360"/>
              <a:ext cx="11156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10120" y="648360"/>
              <a:ext cx="1106280" cy="113148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876400">
              <a:off x="7081200" y="1095120"/>
              <a:ext cx="650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28600" y="1219320"/>
            <a:ext cx="6095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out these shallow seas lived some of the first compl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 of life Including: invertebrates (shell fish), fish and pl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657600"/>
            <a:ext cx="9448920" cy="304920"/>
          </a:xfrm>
          <a:prstGeom prst="rect">
            <a:avLst/>
          </a:prstGeom>
          <a:gradFill rotWithShape="0">
            <a:gsLst>
              <a:gs pos="0">
                <a:srgbClr val="25405b"/>
              </a:gs>
              <a:gs pos="100000">
                <a:srgbClr val="69b4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410" dur="15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412" dur="15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414" dur="1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-0.06944 -0.03171 -0.13819 -0.06528 -0.19861 -0.08518 C -0.25902 -0.10509 -0.32066 -0.11666 -0.3625 -0.11967 C -0.40434 -0.12268 -0.42934 -0.10416 -0.45 -0.10301 C -0.47066 -0.10185 -0.4717 -0.11088 -0.48611 -0.11227 C -0.50052 -0.11366 -0.51336 -0.10926 -0.53611 -0.11111 C -0.55885 -0.11296 -0.58472 -0.12708 -0.62222 -0.12407 C -0.65972 -0.12106 -0.71666 -0.09954 -0.76111 -0.09375 C -0.80555 -0.08796 -0.85173 -0.08588 -0.88923 -0.08889 C -0.92673 -0.0919 -0.92882 -0.11389 -0.98611 -0.11227 C -1.0434 -0.11065 -1.18177 -0.08634 -1.23333 -0.07963 E">
                                      <p:cBhvr>
                                        <p:cTn id="416" dur="3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-0.02674 -0.0081 -0.12431 -0.05069 -0.16059 -0.04838 C -0.19688 -0.04606 -0.20573 -0.000229999999999999 -0.21754 0.01459 C -0.22934 0.0294 -0.22257 0.03102 -0.23143 0.04051 C -0.24028 0.05 -0.2592 0.06459 -0.27032 0.07199 C -0.28143 0.0794 -0.28907 0.08241 -0.29861 0.08519 C -0.30816 0.08797 -0.30643 0.08889 -0.32778 0.08889 C -0.34913 0.08889 -0.40313 0.08773 -0.42726 0.08496 C -0.45139 0.08218 -0.46129 0.07871 -0.47309 0.07199 C -0.4849 0.06528 -0.48802 0.05857 -0.49809 0.04422 C -0.50816 0.02986 -0.50851 0.00209 -0.53334 -0.01481 C -0.55816 -0.03171 -0.61788 -0.0537 -0.6467 -0.05764 C -0.6757 -0.06157 -0.68663 -0.04745 -0.70782 -0.03912 C -0.729 -0.03078 -0.74983 -0.02152 -0.77361 -0.0074 C -0.7974 0.00672 -0.82431 0.04653 -0.85087 0.04607 C -0.87743 0.0456 -0.86511 0.01019 -0.93299 -0.00949 C -1.00087 -0.02916 -1.19045 -0.05902 -1.25834 -0.07222 E">
                                      <p:cBhvr>
                                        <p:cTn id="418" dur="35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420" dur="2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422" dur="26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495680" y="2057400"/>
            <a:ext cx="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495680" y="2057400"/>
              <a:ext cx="0" cy="19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32120" y="2163600"/>
              <a:ext cx="1812960" cy="185436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H="1" flipV="1">
            <a:off x="5486400" y="4038120"/>
            <a:ext cx="838080" cy="7621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218960" y="4038480"/>
            <a:ext cx="42670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5334120" y="3428640"/>
            <a:ext cx="121896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219320" y="342900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5257800" y="2971800"/>
            <a:ext cx="144792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219320" y="2971800"/>
            <a:ext cx="4038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350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fish &amp; invertebrat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6668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and plant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22096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ptil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410080" y="2514240"/>
            <a:ext cx="1524240" cy="1600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218960" y="25146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638680" y="1905120"/>
            <a:ext cx="1524240" cy="2133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16002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Extinction 90% of al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19320" y="1905120"/>
            <a:ext cx="44193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5.55556E-006 L 0.49167 0.44445 E">
                                      <p:cBhvr>
                                        <p:cTn id="45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_____ of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fish &amp; invertebrate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and plant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reptiles appe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ass Extinction ___% of all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1295280" y="342900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s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-685800" y="3809880"/>
            <a:ext cx="10820520" cy="1143000"/>
          </a:xfrm>
          <a:custGeom>
            <a:avLst/>
            <a:gdLst/>
            <a:ahLst/>
            <a:rect l="l" t="t" r="r" b="b"/>
            <a:pathLst>
              <a:path w="6768" h="1488">
                <a:moveTo>
                  <a:pt x="400" y="29"/>
                </a:moveTo>
                <a:cubicBezTo>
                  <a:pt x="533" y="80"/>
                  <a:pt x="783" y="349"/>
                  <a:pt x="1008" y="392"/>
                </a:cubicBezTo>
                <a:cubicBezTo>
                  <a:pt x="1233" y="435"/>
                  <a:pt x="1520" y="293"/>
                  <a:pt x="1752" y="288"/>
                </a:cubicBezTo>
                <a:cubicBezTo>
                  <a:pt x="1984" y="283"/>
                  <a:pt x="2163" y="393"/>
                  <a:pt x="2400" y="360"/>
                </a:cubicBezTo>
                <a:cubicBezTo>
                  <a:pt x="2637" y="327"/>
                  <a:pt x="2889" y="81"/>
                  <a:pt x="3176" y="88"/>
                </a:cubicBezTo>
                <a:cubicBezTo>
                  <a:pt x="3463" y="95"/>
                  <a:pt x="3804" y="408"/>
                  <a:pt x="4120" y="400"/>
                </a:cubicBezTo>
                <a:cubicBezTo>
                  <a:pt x="4436" y="392"/>
                  <a:pt x="4776" y="61"/>
                  <a:pt x="5072" y="40"/>
                </a:cubicBezTo>
                <a:cubicBezTo>
                  <a:pt x="5368" y="19"/>
                  <a:pt x="5684" y="260"/>
                  <a:pt x="5896" y="272"/>
                </a:cubicBezTo>
                <a:cubicBezTo>
                  <a:pt x="6108" y="284"/>
                  <a:pt x="6228" y="133"/>
                  <a:pt x="6344" y="112"/>
                </a:cubicBezTo>
                <a:cubicBezTo>
                  <a:pt x="6460" y="91"/>
                  <a:pt x="6567" y="23"/>
                  <a:pt x="6592" y="147"/>
                </a:cubicBezTo>
                <a:cubicBezTo>
                  <a:pt x="6617" y="271"/>
                  <a:pt x="6501" y="662"/>
                  <a:pt x="6496" y="854"/>
                </a:cubicBezTo>
                <a:cubicBezTo>
                  <a:pt x="6491" y="1047"/>
                  <a:pt x="6768" y="1228"/>
                  <a:pt x="6560" y="1306"/>
                </a:cubicBezTo>
                <a:cubicBezTo>
                  <a:pt x="6352" y="1385"/>
                  <a:pt x="5712" y="1301"/>
                  <a:pt x="5248" y="1326"/>
                </a:cubicBezTo>
                <a:cubicBezTo>
                  <a:pt x="4784" y="1350"/>
                  <a:pt x="4325" y="1450"/>
                  <a:pt x="3776" y="1454"/>
                </a:cubicBezTo>
                <a:cubicBezTo>
                  <a:pt x="3227" y="1457"/>
                  <a:pt x="2471" y="1352"/>
                  <a:pt x="1952" y="1346"/>
                </a:cubicBezTo>
                <a:cubicBezTo>
                  <a:pt x="1433" y="1339"/>
                  <a:pt x="971" y="1418"/>
                  <a:pt x="664" y="1414"/>
                </a:cubicBezTo>
                <a:cubicBezTo>
                  <a:pt x="357" y="1411"/>
                  <a:pt x="220" y="1488"/>
                  <a:pt x="112" y="1326"/>
                </a:cubicBezTo>
                <a:cubicBezTo>
                  <a:pt x="4" y="1164"/>
                  <a:pt x="0" y="648"/>
                  <a:pt x="16" y="442"/>
                </a:cubicBezTo>
                <a:cubicBezTo>
                  <a:pt x="32" y="236"/>
                  <a:pt x="144" y="157"/>
                  <a:pt x="208" y="88"/>
                </a:cubicBezTo>
                <a:cubicBezTo>
                  <a:pt x="272" y="20"/>
                  <a:pt x="208" y="0"/>
                  <a:pt x="400" y="29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609480" y="3886200"/>
            <a:ext cx="10534680" cy="3200400"/>
          </a:xfrm>
          <a:custGeom>
            <a:avLst/>
            <a:gdLst/>
            <a:ahLst/>
            <a:rect l="l" t="t" r="r" b="b"/>
            <a:pathLst>
              <a:path w="6636" h="2016">
                <a:moveTo>
                  <a:pt x="400" y="40"/>
                </a:moveTo>
                <a:cubicBezTo>
                  <a:pt x="592" y="80"/>
                  <a:pt x="1124" y="286"/>
                  <a:pt x="1360" y="359"/>
                </a:cubicBezTo>
                <a:cubicBezTo>
                  <a:pt x="1596" y="432"/>
                  <a:pt x="1612" y="464"/>
                  <a:pt x="1816" y="480"/>
                </a:cubicBezTo>
                <a:cubicBezTo>
                  <a:pt x="2020" y="496"/>
                  <a:pt x="2356" y="481"/>
                  <a:pt x="2584" y="456"/>
                </a:cubicBezTo>
                <a:cubicBezTo>
                  <a:pt x="2812" y="431"/>
                  <a:pt x="2985" y="356"/>
                  <a:pt x="3184" y="333"/>
                </a:cubicBezTo>
                <a:cubicBezTo>
                  <a:pt x="3383" y="310"/>
                  <a:pt x="3491" y="306"/>
                  <a:pt x="3776" y="319"/>
                </a:cubicBezTo>
                <a:cubicBezTo>
                  <a:pt x="4061" y="333"/>
                  <a:pt x="4531" y="432"/>
                  <a:pt x="4896" y="413"/>
                </a:cubicBezTo>
                <a:cubicBezTo>
                  <a:pt x="5261" y="393"/>
                  <a:pt x="5717" y="248"/>
                  <a:pt x="5968" y="200"/>
                </a:cubicBezTo>
                <a:cubicBezTo>
                  <a:pt x="6219" y="151"/>
                  <a:pt x="6296" y="120"/>
                  <a:pt x="6400" y="120"/>
                </a:cubicBezTo>
                <a:cubicBezTo>
                  <a:pt x="6504" y="120"/>
                  <a:pt x="6576" y="27"/>
                  <a:pt x="6592" y="200"/>
                </a:cubicBezTo>
                <a:cubicBezTo>
                  <a:pt x="6608" y="373"/>
                  <a:pt x="6501" y="897"/>
                  <a:pt x="6496" y="1158"/>
                </a:cubicBezTo>
                <a:cubicBezTo>
                  <a:pt x="6491" y="1419"/>
                  <a:pt x="6636" y="1634"/>
                  <a:pt x="6560" y="1770"/>
                </a:cubicBezTo>
                <a:cubicBezTo>
                  <a:pt x="6484" y="1906"/>
                  <a:pt x="6504" y="1943"/>
                  <a:pt x="6040" y="1976"/>
                </a:cubicBezTo>
                <a:cubicBezTo>
                  <a:pt x="5576" y="2009"/>
                  <a:pt x="4461" y="1974"/>
                  <a:pt x="3776" y="1969"/>
                </a:cubicBezTo>
                <a:cubicBezTo>
                  <a:pt x="3091" y="1964"/>
                  <a:pt x="2447" y="1953"/>
                  <a:pt x="1928" y="1944"/>
                </a:cubicBezTo>
                <a:cubicBezTo>
                  <a:pt x="1409" y="1935"/>
                  <a:pt x="967" y="1941"/>
                  <a:pt x="664" y="1916"/>
                </a:cubicBezTo>
                <a:cubicBezTo>
                  <a:pt x="361" y="1891"/>
                  <a:pt x="220" y="2016"/>
                  <a:pt x="112" y="1796"/>
                </a:cubicBezTo>
                <a:cubicBezTo>
                  <a:pt x="4" y="1577"/>
                  <a:pt x="0" y="878"/>
                  <a:pt x="16" y="599"/>
                </a:cubicBezTo>
                <a:cubicBezTo>
                  <a:pt x="32" y="319"/>
                  <a:pt x="144" y="213"/>
                  <a:pt x="208" y="120"/>
                </a:cubicBezTo>
                <a:cubicBezTo>
                  <a:pt x="272" y="27"/>
                  <a:pt x="208" y="0"/>
                  <a:pt x="400" y="40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5181480"/>
            <a:ext cx="4010040" cy="703440"/>
          </a:xfrm>
          <a:custGeom>
            <a:avLst/>
            <a:gdLst/>
            <a:ahLst/>
            <a:rect l="l" t="t" r="r" b="b"/>
            <a:pathLst>
              <a:path w="2526" h="443">
                <a:moveTo>
                  <a:pt x="1418" y="12"/>
                </a:moveTo>
                <a:cubicBezTo>
                  <a:pt x="1274" y="12"/>
                  <a:pt x="1113" y="41"/>
                  <a:pt x="890" y="60"/>
                </a:cubicBezTo>
                <a:cubicBezTo>
                  <a:pt x="667" y="79"/>
                  <a:pt x="162" y="102"/>
                  <a:pt x="81" y="128"/>
                </a:cubicBezTo>
                <a:cubicBezTo>
                  <a:pt x="0" y="154"/>
                  <a:pt x="373" y="172"/>
                  <a:pt x="401" y="216"/>
                </a:cubicBezTo>
                <a:cubicBezTo>
                  <a:pt x="429" y="260"/>
                  <a:pt x="20" y="367"/>
                  <a:pt x="249" y="392"/>
                </a:cubicBezTo>
                <a:cubicBezTo>
                  <a:pt x="478" y="417"/>
                  <a:pt x="1427" y="365"/>
                  <a:pt x="1778" y="368"/>
                </a:cubicBezTo>
                <a:cubicBezTo>
                  <a:pt x="2129" y="371"/>
                  <a:pt x="2230" y="443"/>
                  <a:pt x="2354" y="408"/>
                </a:cubicBezTo>
                <a:cubicBezTo>
                  <a:pt x="2478" y="373"/>
                  <a:pt x="2518" y="218"/>
                  <a:pt x="2522" y="156"/>
                </a:cubicBezTo>
                <a:cubicBezTo>
                  <a:pt x="2526" y="94"/>
                  <a:pt x="2427" y="61"/>
                  <a:pt x="2378" y="36"/>
                </a:cubicBezTo>
                <a:cubicBezTo>
                  <a:pt x="2329" y="11"/>
                  <a:pt x="2282" y="8"/>
                  <a:pt x="2226" y="4"/>
                </a:cubicBezTo>
                <a:cubicBezTo>
                  <a:pt x="2170" y="0"/>
                  <a:pt x="2121" y="3"/>
                  <a:pt x="2042" y="12"/>
                </a:cubicBezTo>
                <a:cubicBezTo>
                  <a:pt x="1963" y="21"/>
                  <a:pt x="1858" y="60"/>
                  <a:pt x="1754" y="60"/>
                </a:cubicBezTo>
                <a:cubicBezTo>
                  <a:pt x="1650" y="60"/>
                  <a:pt x="1562" y="12"/>
                  <a:pt x="1418" y="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77240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5053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365760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1629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133720" y="3809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47242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-1322280" y="3124080"/>
            <a:ext cx="1322280" cy="1654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9"/>
          <a:stretch/>
        </p:blipFill>
        <p:spPr>
          <a:xfrm>
            <a:off x="-457200" y="3809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0"/>
          <a:stretch/>
        </p:blipFill>
        <p:spPr>
          <a:xfrm rot="21420000">
            <a:off x="-2590560" y="4647960"/>
            <a:ext cx="1819440" cy="1455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1"/>
          <a:stretch/>
        </p:blipFill>
        <p:spPr>
          <a:xfrm>
            <a:off x="3886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14479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ozoic Era was the age of rept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witnessed the evolution of the lar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 to have ever walked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2"/>
          <a:stretch/>
        </p:blipFill>
        <p:spPr>
          <a:xfrm>
            <a:off x="7543800" y="44956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6172200" y="380880"/>
            <a:ext cx="2971800" cy="2743200"/>
            <a:chOff x="6172200" y="380880"/>
            <a:chExt cx="2971800" cy="2743200"/>
          </a:xfrm>
        </p:grpSpPr>
        <p:pic>
          <p:nvPicPr>
            <p:cNvPr id="383" name="" descr=""/>
            <p:cNvPicPr/>
            <p:nvPr/>
          </p:nvPicPr>
          <p:blipFill>
            <a:blip r:embed="rId13"/>
            <a:stretch/>
          </p:blipFill>
          <p:spPr>
            <a:xfrm>
              <a:off x="6172200" y="380880"/>
              <a:ext cx="2971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582680" y="520200"/>
              <a:ext cx="130932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23840" y="1023840"/>
              <a:ext cx="129816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29080" y="1822320"/>
              <a:ext cx="1208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40480" y="731160"/>
              <a:ext cx="1168920" cy="12060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876400">
              <a:off x="6853680" y="116316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03720" y="547200"/>
              <a:ext cx="764640" cy="140472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632720" y="613080"/>
              <a:ext cx="0" cy="1208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3994200">
              <a:off x="7055280" y="107064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7200" y="205740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nosaurs would eventually go extin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ive rise to modern day 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4"/>
          <a:stretch/>
        </p:blipFill>
        <p:spPr>
          <a:xfrm>
            <a:off x="6172200" y="51814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5"/>
          <a:stretch/>
        </p:blipFill>
        <p:spPr>
          <a:xfrm>
            <a:off x="60958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6"/>
          <a:stretch/>
        </p:blipFill>
        <p:spPr>
          <a:xfrm>
            <a:off x="5867280" y="514368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7"/>
          <a:stretch/>
        </p:blipFill>
        <p:spPr>
          <a:xfrm>
            <a:off x="6858000" y="54100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6629400" y="533412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9"/>
          <a:stretch/>
        </p:blipFill>
        <p:spPr>
          <a:xfrm>
            <a:off x="-914400" y="5105520"/>
            <a:ext cx="1066680" cy="642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33520" y="2666880"/>
            <a:ext cx="4952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as we all know, these dinosaurs d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and left a world for other animals to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5174 0.01482 0.1073 0.01204 0.17136 0.02037 C 0.23542 0.02871 0.30851 0.04005 0.38473 0.04954 C 0.46094 0.05903 0.54931 0.07014 0.62917 0.07732 C 0.70903 0.08449 0.79723 0.09236 0.86372 0.09213 C 0.93021 0.0919 0.9783 0.07917 1.02778 0.07547 C 1.07709 0.07176 1.12657 0.07639 1.16111 0.06991 C 1.19566 0.06343 1.21945 0.04352 1.23473 0.03658 E">
                                      <p:cBhvr>
                                        <p:cTn id="526" dur="25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3473 C 0.10104 -0.03889 0.20225 -0.0426 0.25972 -0.04422 C 0.31718 -0.04584 0.30468 -0.04746 0.34427 -0.04422 C 0.3842 -0.04098 0.43454 -0.01227 0.49861 -0.02524 C 0.56267 -0.0382 0.65277 -0.1007 0.72829 -0.12269 C 0.80382 -0.14468 0.84722 -0.15672 0.95191 -0.15787 C 1.05659 -0.15903 1.27257 -0.13542 1.35694 -0.12963 E">
                                      <p:cBhvr>
                                        <p:cTn id="528" dur="29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C 0.06979 0.01852 0.30399 0.10764 0.41666 0.11088 C 0.52934 0.11412 0.596 0.03819 0.67639 0.02014 C 0.75677 0.00208 0.83246 0.00301 0.89861 0.00185 C 0.96475 0.00069 1.00503 0.01643 1.07361 0.01296 C 1.14219 0.00949 1.27031 -0.0132 1.30972 -0.01852 E">
                                      <p:cBhvr>
                                        <p:cTn id="530" dur="25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mounting evidence that a large meteorite impact slammed into earth 65 mya ending the Cenozoic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mpact would have caused widespread devastation and f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-213372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1.11111E-006 L 0.90416 0.53889 E">
                                      <p:cBhvr>
                                        <p:cTn id="551" dur="5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5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h and smoke from fires could have blocked out enough sunlight changing the global climate; decimating  and wiping out the cold blood 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-220968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6 -0.01667 L 0.89584 0.53889 E">
                                      <p:cBhvr>
                                        <p:cTn id="575" dur="5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5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500"/>
                            </p:stCondLst>
                            <p:childTnLst>
                              <p:par>
                                <p:cTn id="5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5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Geologic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major geologic events that have transformed our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geologic time scale and it’s major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553080" y="2971800"/>
            <a:ext cx="609840" cy="9144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361960" y="29718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705360" y="2590920"/>
            <a:ext cx="685800" cy="12189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361960" y="259092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6520" y="266688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ird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28800" y="182880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extinction 60% of all life per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7543800" y="2133720"/>
            <a:ext cx="38088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361960" y="2133720"/>
            <a:ext cx="5181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4625 0.43889 E">
                                      <p:cBhvr>
                                        <p:cTn id="60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2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655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tiles dom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mall Mammals 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Bi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extinction 60% of all life perishes including dinosaurs due  to large ______coll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2438280"/>
            <a:ext cx="83844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2133720"/>
            <a:ext cx="76212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533520" y="2819520"/>
            <a:ext cx="11122200" cy="1258920"/>
          </a:xfrm>
          <a:custGeom>
            <a:avLst/>
            <a:gdLst/>
            <a:ahLst/>
            <a:rect l="l" t="t" r="r" b="b"/>
            <a:pathLst>
              <a:path w="7006" h="1038">
                <a:moveTo>
                  <a:pt x="375" y="226"/>
                </a:moveTo>
                <a:cubicBezTo>
                  <a:pt x="480" y="264"/>
                  <a:pt x="688" y="499"/>
                  <a:pt x="824" y="485"/>
                </a:cubicBezTo>
                <a:cubicBezTo>
                  <a:pt x="960" y="471"/>
                  <a:pt x="1036" y="124"/>
                  <a:pt x="1192" y="141"/>
                </a:cubicBezTo>
                <a:cubicBezTo>
                  <a:pt x="1348" y="158"/>
                  <a:pt x="1603" y="566"/>
                  <a:pt x="1760" y="589"/>
                </a:cubicBezTo>
                <a:cubicBezTo>
                  <a:pt x="1917" y="612"/>
                  <a:pt x="2020" y="287"/>
                  <a:pt x="2136" y="278"/>
                </a:cubicBezTo>
                <a:cubicBezTo>
                  <a:pt x="2252" y="269"/>
                  <a:pt x="2386" y="517"/>
                  <a:pt x="2456" y="533"/>
                </a:cubicBezTo>
                <a:cubicBezTo>
                  <a:pt x="2526" y="549"/>
                  <a:pt x="2499" y="434"/>
                  <a:pt x="2559" y="375"/>
                </a:cubicBezTo>
                <a:cubicBezTo>
                  <a:pt x="2619" y="316"/>
                  <a:pt x="2703" y="148"/>
                  <a:pt x="2816" y="181"/>
                </a:cubicBezTo>
                <a:cubicBezTo>
                  <a:pt x="2929" y="214"/>
                  <a:pt x="3108" y="544"/>
                  <a:pt x="3240" y="573"/>
                </a:cubicBezTo>
                <a:cubicBezTo>
                  <a:pt x="3372" y="602"/>
                  <a:pt x="3475" y="361"/>
                  <a:pt x="3608" y="357"/>
                </a:cubicBezTo>
                <a:cubicBezTo>
                  <a:pt x="3741" y="353"/>
                  <a:pt x="3854" y="607"/>
                  <a:pt x="4040" y="549"/>
                </a:cubicBezTo>
                <a:cubicBezTo>
                  <a:pt x="4226" y="491"/>
                  <a:pt x="4476" y="16"/>
                  <a:pt x="4724" y="8"/>
                </a:cubicBezTo>
                <a:cubicBezTo>
                  <a:pt x="4972" y="0"/>
                  <a:pt x="5325" y="458"/>
                  <a:pt x="5528" y="502"/>
                </a:cubicBezTo>
                <a:cubicBezTo>
                  <a:pt x="5731" y="546"/>
                  <a:pt x="5770" y="345"/>
                  <a:pt x="5941" y="272"/>
                </a:cubicBezTo>
                <a:cubicBezTo>
                  <a:pt x="6112" y="199"/>
                  <a:pt x="6426" y="56"/>
                  <a:pt x="6554" y="61"/>
                </a:cubicBezTo>
                <a:cubicBezTo>
                  <a:pt x="6682" y="65"/>
                  <a:pt x="6651" y="229"/>
                  <a:pt x="6710" y="305"/>
                </a:cubicBezTo>
                <a:cubicBezTo>
                  <a:pt x="6770" y="381"/>
                  <a:pt x="6918" y="412"/>
                  <a:pt x="6911" y="514"/>
                </a:cubicBezTo>
                <a:cubicBezTo>
                  <a:pt x="6905" y="617"/>
                  <a:pt x="7006" y="844"/>
                  <a:pt x="6673" y="916"/>
                </a:cubicBezTo>
                <a:cubicBezTo>
                  <a:pt x="6340" y="988"/>
                  <a:pt x="5437" y="931"/>
                  <a:pt x="4915" y="949"/>
                </a:cubicBezTo>
                <a:cubicBezTo>
                  <a:pt x="4392" y="966"/>
                  <a:pt x="4070" y="1006"/>
                  <a:pt x="3536" y="1018"/>
                </a:cubicBezTo>
                <a:cubicBezTo>
                  <a:pt x="3002" y="1030"/>
                  <a:pt x="2198" y="1025"/>
                  <a:pt x="1712" y="1021"/>
                </a:cubicBezTo>
                <a:cubicBezTo>
                  <a:pt x="1226" y="1017"/>
                  <a:pt x="890" y="1009"/>
                  <a:pt x="622" y="997"/>
                </a:cubicBezTo>
                <a:cubicBezTo>
                  <a:pt x="354" y="985"/>
                  <a:pt x="206" y="1038"/>
                  <a:pt x="105" y="949"/>
                </a:cubicBezTo>
                <a:cubicBezTo>
                  <a:pt x="4" y="857"/>
                  <a:pt x="0" y="571"/>
                  <a:pt x="15" y="455"/>
                </a:cubicBezTo>
                <a:cubicBezTo>
                  <a:pt x="30" y="342"/>
                  <a:pt x="135" y="298"/>
                  <a:pt x="194" y="259"/>
                </a:cubicBezTo>
                <a:cubicBezTo>
                  <a:pt x="255" y="220"/>
                  <a:pt x="194" y="209"/>
                  <a:pt x="375" y="22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1295280" y="335268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en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-666720" y="3929040"/>
            <a:ext cx="10591920" cy="3157560"/>
          </a:xfrm>
          <a:custGeom>
            <a:avLst/>
            <a:gdLst/>
            <a:ahLst/>
            <a:rect l="l" t="t" r="r" b="b"/>
            <a:pathLst>
              <a:path w="6672" h="1989">
                <a:moveTo>
                  <a:pt x="460" y="301"/>
                </a:moveTo>
                <a:cubicBezTo>
                  <a:pt x="681" y="305"/>
                  <a:pt x="1149" y="325"/>
                  <a:pt x="1396" y="332"/>
                </a:cubicBezTo>
                <a:cubicBezTo>
                  <a:pt x="1643" y="339"/>
                  <a:pt x="1736" y="325"/>
                  <a:pt x="1940" y="341"/>
                </a:cubicBezTo>
                <a:cubicBezTo>
                  <a:pt x="2144" y="357"/>
                  <a:pt x="2401" y="416"/>
                  <a:pt x="2620" y="429"/>
                </a:cubicBezTo>
                <a:cubicBezTo>
                  <a:pt x="2839" y="442"/>
                  <a:pt x="3053" y="432"/>
                  <a:pt x="3252" y="421"/>
                </a:cubicBezTo>
                <a:cubicBezTo>
                  <a:pt x="3451" y="410"/>
                  <a:pt x="3532" y="371"/>
                  <a:pt x="3812" y="365"/>
                </a:cubicBezTo>
                <a:cubicBezTo>
                  <a:pt x="4092" y="359"/>
                  <a:pt x="4568" y="397"/>
                  <a:pt x="4932" y="386"/>
                </a:cubicBezTo>
                <a:cubicBezTo>
                  <a:pt x="5296" y="375"/>
                  <a:pt x="5745" y="350"/>
                  <a:pt x="5996" y="301"/>
                </a:cubicBezTo>
                <a:cubicBezTo>
                  <a:pt x="6247" y="252"/>
                  <a:pt x="6331" y="114"/>
                  <a:pt x="6436" y="93"/>
                </a:cubicBezTo>
                <a:cubicBezTo>
                  <a:pt x="6541" y="72"/>
                  <a:pt x="6612" y="0"/>
                  <a:pt x="6628" y="173"/>
                </a:cubicBezTo>
                <a:cubicBezTo>
                  <a:pt x="6644" y="346"/>
                  <a:pt x="6537" y="870"/>
                  <a:pt x="6532" y="1131"/>
                </a:cubicBezTo>
                <a:cubicBezTo>
                  <a:pt x="6527" y="1392"/>
                  <a:pt x="6672" y="1607"/>
                  <a:pt x="6596" y="1743"/>
                </a:cubicBezTo>
                <a:cubicBezTo>
                  <a:pt x="6520" y="1879"/>
                  <a:pt x="6540" y="1916"/>
                  <a:pt x="6076" y="1949"/>
                </a:cubicBezTo>
                <a:cubicBezTo>
                  <a:pt x="5612" y="1982"/>
                  <a:pt x="4497" y="1947"/>
                  <a:pt x="3812" y="1942"/>
                </a:cubicBezTo>
                <a:cubicBezTo>
                  <a:pt x="3127" y="1937"/>
                  <a:pt x="2483" y="1926"/>
                  <a:pt x="1964" y="1917"/>
                </a:cubicBezTo>
                <a:cubicBezTo>
                  <a:pt x="1445" y="1908"/>
                  <a:pt x="1003" y="1914"/>
                  <a:pt x="700" y="1889"/>
                </a:cubicBezTo>
                <a:cubicBezTo>
                  <a:pt x="397" y="1864"/>
                  <a:pt x="256" y="1989"/>
                  <a:pt x="148" y="1769"/>
                </a:cubicBezTo>
                <a:cubicBezTo>
                  <a:pt x="40" y="1550"/>
                  <a:pt x="65" y="815"/>
                  <a:pt x="52" y="572"/>
                </a:cubicBezTo>
                <a:cubicBezTo>
                  <a:pt x="39" y="329"/>
                  <a:pt x="0" y="354"/>
                  <a:pt x="68" y="309"/>
                </a:cubicBezTo>
                <a:cubicBezTo>
                  <a:pt x="136" y="264"/>
                  <a:pt x="239" y="297"/>
                  <a:pt x="460" y="301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-15228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25780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-152280" y="4876920"/>
            <a:ext cx="5715000" cy="609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5257800" y="4876920"/>
            <a:ext cx="571500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 flipV="1">
            <a:off x="-228240" y="4570920"/>
            <a:ext cx="10591920" cy="2971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685800" y="3809880"/>
            <a:ext cx="10820520" cy="1371600"/>
          </a:xfrm>
          <a:custGeom>
            <a:avLst/>
            <a:gdLst/>
            <a:ahLst/>
            <a:rect l="l" t="t" r="r" b="b"/>
            <a:pathLst>
              <a:path w="6816" h="864">
                <a:moveTo>
                  <a:pt x="403" y="17"/>
                </a:moveTo>
                <a:cubicBezTo>
                  <a:pt x="537" y="47"/>
                  <a:pt x="789" y="203"/>
                  <a:pt x="1015" y="228"/>
                </a:cubicBezTo>
                <a:cubicBezTo>
                  <a:pt x="1242" y="252"/>
                  <a:pt x="1531" y="170"/>
                  <a:pt x="1764" y="167"/>
                </a:cubicBezTo>
                <a:cubicBezTo>
                  <a:pt x="1998" y="164"/>
                  <a:pt x="2178" y="228"/>
                  <a:pt x="2417" y="209"/>
                </a:cubicBezTo>
                <a:cubicBezTo>
                  <a:pt x="2656" y="190"/>
                  <a:pt x="2909" y="47"/>
                  <a:pt x="3199" y="52"/>
                </a:cubicBezTo>
                <a:cubicBezTo>
                  <a:pt x="3488" y="55"/>
                  <a:pt x="3831" y="236"/>
                  <a:pt x="4149" y="233"/>
                </a:cubicBezTo>
                <a:cubicBezTo>
                  <a:pt x="4467" y="228"/>
                  <a:pt x="4810" y="36"/>
                  <a:pt x="5108" y="23"/>
                </a:cubicBezTo>
                <a:cubicBezTo>
                  <a:pt x="5406" y="11"/>
                  <a:pt x="5724" y="151"/>
                  <a:pt x="5938" y="158"/>
                </a:cubicBezTo>
                <a:cubicBezTo>
                  <a:pt x="6151" y="164"/>
                  <a:pt x="6272" y="77"/>
                  <a:pt x="6389" y="65"/>
                </a:cubicBezTo>
                <a:cubicBezTo>
                  <a:pt x="6506" y="53"/>
                  <a:pt x="6596" y="17"/>
                  <a:pt x="6639" y="85"/>
                </a:cubicBezTo>
                <a:cubicBezTo>
                  <a:pt x="6682" y="153"/>
                  <a:pt x="6653" y="360"/>
                  <a:pt x="6648" y="472"/>
                </a:cubicBezTo>
                <a:cubicBezTo>
                  <a:pt x="6643" y="584"/>
                  <a:pt x="6816" y="723"/>
                  <a:pt x="6607" y="758"/>
                </a:cubicBezTo>
                <a:cubicBezTo>
                  <a:pt x="6398" y="793"/>
                  <a:pt x="5860" y="677"/>
                  <a:pt x="5392" y="680"/>
                </a:cubicBezTo>
                <a:cubicBezTo>
                  <a:pt x="4924" y="683"/>
                  <a:pt x="4353" y="783"/>
                  <a:pt x="3800" y="778"/>
                </a:cubicBezTo>
                <a:cubicBezTo>
                  <a:pt x="3247" y="773"/>
                  <a:pt x="2594" y="641"/>
                  <a:pt x="2072" y="648"/>
                </a:cubicBezTo>
                <a:cubicBezTo>
                  <a:pt x="1550" y="655"/>
                  <a:pt x="996" y="801"/>
                  <a:pt x="669" y="821"/>
                </a:cubicBezTo>
                <a:cubicBezTo>
                  <a:pt x="342" y="841"/>
                  <a:pt x="222" y="864"/>
                  <a:pt x="113" y="770"/>
                </a:cubicBezTo>
                <a:cubicBezTo>
                  <a:pt x="4" y="676"/>
                  <a:pt x="0" y="377"/>
                  <a:pt x="16" y="257"/>
                </a:cubicBezTo>
                <a:cubicBezTo>
                  <a:pt x="32" y="137"/>
                  <a:pt x="145" y="91"/>
                  <a:pt x="209" y="52"/>
                </a:cubicBezTo>
                <a:cubicBezTo>
                  <a:pt x="274" y="12"/>
                  <a:pt x="209" y="0"/>
                  <a:pt x="403" y="17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 flipH="1">
            <a:off x="5412960" y="4495680"/>
            <a:ext cx="1019160" cy="1067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 flipH="1">
            <a:off x="3885840" y="4419720"/>
            <a:ext cx="654120" cy="914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 flipH="1">
            <a:off x="9144000" y="45720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 flipH="1">
            <a:off x="1066680" y="4444920"/>
            <a:ext cx="1067040" cy="8892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600200" y="2209680"/>
            <a:ext cx="1219320" cy="45576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9907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nosaurs gone, Mammals would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and dominate th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1676520"/>
            <a:ext cx="662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mammals thrive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ses, Mammoths, and Pr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8080" y="2362320"/>
            <a:ext cx="670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ind would evolve and inha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expanding it’s popul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2895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ce Ages came in went ca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inction of many large mammal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58000" y="0"/>
            <a:ext cx="2286000" cy="2209680"/>
            <a:chOff x="6858000" y="0"/>
            <a:chExt cx="2286000" cy="2209680"/>
          </a:xfrm>
        </p:grpSpPr>
        <p:pic>
          <p:nvPicPr>
            <p:cNvPr id="484" name="" descr=""/>
            <p:cNvPicPr/>
            <p:nvPr/>
          </p:nvPicPr>
          <p:blipFill>
            <a:blip r:embed="rId10"/>
            <a:stretch/>
          </p:blipFill>
          <p:spPr>
            <a:xfrm>
              <a:off x="6858000" y="0"/>
              <a:ext cx="2286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7943040" y="112320"/>
              <a:ext cx="1007280" cy="194760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1680" y="518040"/>
              <a:ext cx="998640" cy="153324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94200" y="1161000"/>
              <a:ext cx="92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41320" y="282240"/>
              <a:ext cx="898920" cy="97128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876400">
              <a:off x="7370640" y="63360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20680" y="133920"/>
              <a:ext cx="588240" cy="113148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3994200">
              <a:off x="7525800" y="55908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75640" y="131040"/>
              <a:ext cx="237240" cy="113904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981560" y="186840"/>
              <a:ext cx="0" cy="97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927200">
              <a:off x="7623720" y="464760"/>
              <a:ext cx="5990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6.33673E-006 C -0.03664 0.01273 -0.07327 0.02568 -0.10782 0.03123 C -0.14237 0.03678 -0.17865 0.01874 -0.20782 0.03285 C -0.23698 0.04695 -0.25226 0.09367 -0.28316 0.11587 C -0.31407 0.13807 -0.35313 0.16051 -0.39358 0.16606 C -0.43403 0.17161 -0.48369 0.15126 -0.52605 0.14871 C -0.56841 0.14617 -0.59306 0.14201 -0.64809 0.15056 C -0.70313 0.15912 -0.78056 0.17392 -0.85591 0.20075 C -0.93125 0.22757 -1.05938 0.29302 -1.1 0.31152 E">
                                      <p:cBhvr>
                                        <p:cTn id="709" dur="15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91040" y="1866960"/>
            <a:ext cx="466560" cy="2317680"/>
          </a:xfrm>
          <a:custGeom>
            <a:avLst/>
            <a:gdLst/>
            <a:ahLst/>
            <a:rect l="l" t="t" r="r" b="b"/>
            <a:pathLst>
              <a:path w="294" h="1460">
                <a:moveTo>
                  <a:pt x="251" y="1264"/>
                </a:moveTo>
                <a:cubicBezTo>
                  <a:pt x="213" y="1095"/>
                  <a:pt x="78" y="421"/>
                  <a:pt x="39" y="230"/>
                </a:cubicBezTo>
                <a:cubicBezTo>
                  <a:pt x="0" y="39"/>
                  <a:pt x="9" y="142"/>
                  <a:pt x="18" y="119"/>
                </a:cubicBezTo>
                <a:cubicBezTo>
                  <a:pt x="27" y="96"/>
                  <a:pt x="68" y="100"/>
                  <a:pt x="93" y="95"/>
                </a:cubicBezTo>
                <a:cubicBezTo>
                  <a:pt x="118" y="90"/>
                  <a:pt x="139" y="87"/>
                  <a:pt x="168" y="86"/>
                </a:cubicBezTo>
                <a:cubicBezTo>
                  <a:pt x="197" y="85"/>
                  <a:pt x="250" y="72"/>
                  <a:pt x="269" y="90"/>
                </a:cubicBezTo>
                <a:cubicBezTo>
                  <a:pt x="288" y="108"/>
                  <a:pt x="281" y="0"/>
                  <a:pt x="281" y="192"/>
                </a:cubicBezTo>
                <a:cubicBezTo>
                  <a:pt x="281" y="384"/>
                  <a:pt x="272" y="1065"/>
                  <a:pt x="267" y="1244"/>
                </a:cubicBezTo>
                <a:cubicBezTo>
                  <a:pt x="262" y="1423"/>
                  <a:pt x="294" y="1460"/>
                  <a:pt x="251" y="1264"/>
                </a:cubicBezTo>
                <a:close/>
              </a:path>
            </a:pathLst>
          </a:custGeom>
          <a:solidFill>
            <a:srgbClr val="00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4927200">
            <a:off x="3772080" y="2552400"/>
            <a:ext cx="121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509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91040" y="1866960"/>
              <a:ext cx="466560" cy="231768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4927200">
              <a:off x="3772080" y="255240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H="1" flipV="1">
            <a:off x="7924680" y="2514600"/>
            <a:ext cx="152640" cy="838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580920" y="251460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 of the largest Ice ages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8458200" y="2133360"/>
            <a:ext cx="7632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580920" y="2133720"/>
            <a:ext cx="4876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95480" y="18288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uman Ancestors appea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295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,000 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human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8610480" y="1676160"/>
            <a:ext cx="0" cy="1523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581280" y="1676520"/>
            <a:ext cx="50292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7" dur="2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0.45834 0.42222 E">
                                      <p:cBhvr>
                                        <p:cTn id="729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mmals dom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jor ice ag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ancestors app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0,000ya-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modern 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r writing this down!!!!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 not writ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2286000"/>
            <a:ext cx="1752840" cy="312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59092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the events in ord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90% of all life wip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tile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plankton create oxygen rich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65% of all life wiped out including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scientists use relative dating techniques to put geologic events in 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to apply the laws of geol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he law horizontality, law of superposition, law of cross-cutting relationship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scientists know which fossils are older and which fossils are you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have a full trash can, where would you find the old trash??? Where would you find the new trash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5562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ur last notes, we learned the history of the earth, when reptiles first appeared, when dinosaurs went extinct, when mammals dominated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how do we know the order of all these ev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way scientist’s have figured out Earth’s History is by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elative 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1" dur="35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3" dur="3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5" dur="35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7" dur="35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9" dur="35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1" dur="3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3" dur="35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5" dur="35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7" dur="3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9" dur="35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1" dur="35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3" dur="35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5" dur="3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7" dur="35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9" dur="35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1" dur="35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3" dur="35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5" dur="35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7" dur="3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9" dur="35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21" dur="35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a mass extinction i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know what a mass extinction is, what do you think causes them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age of the earth 4.6 BYO, When do you think life first appeared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Dating is the concept of dating rocks by putting geologic event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 not give an exact age of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57" y="71"/>
                  <a:pt x="3041" y="65"/>
                </a:cubicBezTo>
                <a:cubicBezTo>
                  <a:pt x="3178" y="37"/>
                  <a:pt x="3512" y="49"/>
                  <a:pt x="3601" y="50"/>
                </a:cubicBezTo>
                <a:cubicBezTo>
                  <a:pt x="3712" y="58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3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500"/>
                            </p:stCondLst>
                            <p:childTnLst>
                              <p:par>
                                <p:cTn id="8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7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8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1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3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5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7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9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11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13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915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917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Relative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34" y="48"/>
                  <a:pt x="3018" y="42"/>
                </a:cubicBezTo>
                <a:cubicBezTo>
                  <a:pt x="3155" y="14"/>
                  <a:pt x="3505" y="33"/>
                  <a:pt x="3594" y="34"/>
                </a:cubicBezTo>
                <a:cubicBezTo>
                  <a:pt x="3705" y="42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266688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94400" y="2057400"/>
            <a:ext cx="17496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3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3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3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3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0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04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06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0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2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4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6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18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2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bottom and the rock layers become younger toward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older fossils would be ath the bottom and younger fossils would be closer to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3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3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3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3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3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3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01800" y="561600"/>
            <a:ext cx="7340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 of Superposition: States that the oldest rock layers are at the bottom and the rock layers become younger toward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541008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29368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Superpo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Old rocks formed on the bottom and young rocks are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SEDIANIM.GIF (205851 bytes)"/>
          <p:cNvPicPr/>
          <p:nvPr/>
        </p:nvPicPr>
        <p:blipFill>
          <a:blip r:embed="rId1"/>
          <a:stretch/>
        </p:blipFill>
        <p:spPr>
          <a:xfrm>
            <a:off x="-152280" y="1219320"/>
            <a:ext cx="4441680" cy="5638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rot="20732400">
            <a:off x="3428640" y="205704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 rot="20580000">
            <a:off x="2590560" y="3428640"/>
            <a:ext cx="1122120" cy="4208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rot="20732400">
            <a:off x="4114440" y="449532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 rocks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bot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 rot="20419800">
            <a:off x="3276360" y="5791320"/>
            <a:ext cx="1122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-380880" y="3276720"/>
            <a:ext cx="78483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Law of Superpositio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____ and the rock layers become younger toward the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46748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3048120"/>
            <a:ext cx="144792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3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3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3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3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 flipH="1">
            <a:off x="728280" y="1295280"/>
            <a:ext cx="5148360" cy="49435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198960" y="4821120"/>
            <a:ext cx="2433600" cy="192240"/>
          </a:xfrm>
          <a:custGeom>
            <a:avLst/>
            <a:gdLst/>
            <a:ahLst/>
            <a:rect l="l" t="t" r="r" b="b"/>
            <a:pathLst>
              <a:path w="1669" h="147">
                <a:moveTo>
                  <a:pt x="180" y="112"/>
                </a:moveTo>
                <a:cubicBezTo>
                  <a:pt x="410" y="146"/>
                  <a:pt x="0" y="130"/>
                  <a:pt x="567" y="147"/>
                </a:cubicBezTo>
                <a:cubicBezTo>
                  <a:pt x="736" y="144"/>
                  <a:pt x="905" y="144"/>
                  <a:pt x="1074" y="138"/>
                </a:cubicBezTo>
                <a:cubicBezTo>
                  <a:pt x="1106" y="137"/>
                  <a:pt x="1155" y="113"/>
                  <a:pt x="1186" y="104"/>
                </a:cubicBezTo>
                <a:cubicBezTo>
                  <a:pt x="1204" y="99"/>
                  <a:pt x="1221" y="92"/>
                  <a:pt x="1238" y="86"/>
                </a:cubicBezTo>
                <a:cubicBezTo>
                  <a:pt x="1246" y="83"/>
                  <a:pt x="1263" y="78"/>
                  <a:pt x="1263" y="78"/>
                </a:cubicBezTo>
                <a:cubicBezTo>
                  <a:pt x="1295" y="48"/>
                  <a:pt x="1612" y="37"/>
                  <a:pt x="1650" y="35"/>
                </a:cubicBezTo>
                <a:cubicBezTo>
                  <a:pt x="1656" y="26"/>
                  <a:pt x="1669" y="19"/>
                  <a:pt x="1667" y="9"/>
                </a:cubicBezTo>
                <a:cubicBezTo>
                  <a:pt x="1665" y="0"/>
                  <a:pt x="1651" y="0"/>
                  <a:pt x="1642" y="0"/>
                </a:cubicBezTo>
                <a:cubicBezTo>
                  <a:pt x="1579" y="0"/>
                  <a:pt x="1516" y="6"/>
                  <a:pt x="1453" y="9"/>
                </a:cubicBezTo>
                <a:cubicBezTo>
                  <a:pt x="1390" y="31"/>
                  <a:pt x="1390" y="19"/>
                  <a:pt x="1306" y="18"/>
                </a:cubicBezTo>
                <a:cubicBezTo>
                  <a:pt x="902" y="13"/>
                  <a:pt x="498" y="12"/>
                  <a:pt x="94" y="9"/>
                </a:cubicBezTo>
                <a:cubicBezTo>
                  <a:pt x="100" y="18"/>
                  <a:pt x="102" y="29"/>
                  <a:pt x="111" y="35"/>
                </a:cubicBezTo>
                <a:cubicBezTo>
                  <a:pt x="121" y="42"/>
                  <a:pt x="137" y="36"/>
                  <a:pt x="146" y="43"/>
                </a:cubicBezTo>
                <a:cubicBezTo>
                  <a:pt x="160" y="54"/>
                  <a:pt x="151" y="81"/>
                  <a:pt x="163" y="95"/>
                </a:cubicBezTo>
                <a:cubicBezTo>
                  <a:pt x="178" y="114"/>
                  <a:pt x="203" y="112"/>
                  <a:pt x="180" y="112"/>
                </a:cubicBezTo>
                <a:close/>
              </a:path>
            </a:pathLst>
          </a:custGeom>
          <a:solidFill>
            <a:srgbClr val="996633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336840" y="4668840"/>
            <a:ext cx="2333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193920" y="4530600"/>
            <a:ext cx="3054600" cy="416160"/>
          </a:xfrm>
          <a:custGeom>
            <a:avLst/>
            <a:gdLst/>
            <a:ahLst/>
            <a:rect l="l" t="t" r="r" b="b"/>
            <a:pathLst>
              <a:path w="2049" h="241">
                <a:moveTo>
                  <a:pt x="1765" y="25"/>
                </a:moveTo>
                <a:cubicBezTo>
                  <a:pt x="1433" y="3"/>
                  <a:pt x="1099" y="19"/>
                  <a:pt x="767" y="0"/>
                </a:cubicBezTo>
                <a:cubicBezTo>
                  <a:pt x="494" y="15"/>
                  <a:pt x="384" y="20"/>
                  <a:pt x="37" y="25"/>
                </a:cubicBezTo>
                <a:cubicBezTo>
                  <a:pt x="0" y="62"/>
                  <a:pt x="22" y="67"/>
                  <a:pt x="62" y="77"/>
                </a:cubicBezTo>
                <a:cubicBezTo>
                  <a:pt x="69" y="97"/>
                  <a:pt x="67" y="121"/>
                  <a:pt x="80" y="137"/>
                </a:cubicBezTo>
                <a:cubicBezTo>
                  <a:pt x="85" y="144"/>
                  <a:pt x="96" y="145"/>
                  <a:pt x="105" y="146"/>
                </a:cubicBezTo>
                <a:cubicBezTo>
                  <a:pt x="165" y="151"/>
                  <a:pt x="226" y="151"/>
                  <a:pt x="286" y="154"/>
                </a:cubicBezTo>
                <a:cubicBezTo>
                  <a:pt x="2049" y="143"/>
                  <a:pt x="1099" y="241"/>
                  <a:pt x="1575" y="129"/>
                </a:cubicBezTo>
                <a:cubicBezTo>
                  <a:pt x="1616" y="135"/>
                  <a:pt x="1686" y="150"/>
                  <a:pt x="1722" y="129"/>
                </a:cubicBezTo>
                <a:cubicBezTo>
                  <a:pt x="1737" y="120"/>
                  <a:pt x="1725" y="94"/>
                  <a:pt x="1730" y="77"/>
                </a:cubicBezTo>
                <a:cubicBezTo>
                  <a:pt x="1731" y="73"/>
                  <a:pt x="1763" y="28"/>
                  <a:pt x="1765" y="25"/>
                </a:cubicBezTo>
                <a:close/>
              </a:path>
            </a:pathLst>
          </a:custGeom>
          <a:solidFill>
            <a:srgbClr val="cc99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48120" y="4343400"/>
            <a:ext cx="2743200" cy="228600"/>
          </a:xfrm>
          <a:custGeom>
            <a:avLst/>
            <a:gdLst/>
            <a:ahLst/>
            <a:rect l="l" t="t" r="r" b="b"/>
            <a:pathLst>
              <a:path w="1853" h="151">
                <a:moveTo>
                  <a:pt x="117" y="151"/>
                </a:moveTo>
                <a:cubicBezTo>
                  <a:pt x="640" y="145"/>
                  <a:pt x="1158" y="142"/>
                  <a:pt x="1681" y="134"/>
                </a:cubicBezTo>
                <a:cubicBezTo>
                  <a:pt x="1690" y="131"/>
                  <a:pt x="1698" y="126"/>
                  <a:pt x="1707" y="125"/>
                </a:cubicBezTo>
                <a:cubicBezTo>
                  <a:pt x="1750" y="120"/>
                  <a:pt x="1794" y="126"/>
                  <a:pt x="1836" y="116"/>
                </a:cubicBezTo>
                <a:cubicBezTo>
                  <a:pt x="1838" y="116"/>
                  <a:pt x="1853" y="66"/>
                  <a:pt x="1853" y="65"/>
                </a:cubicBezTo>
                <a:cubicBezTo>
                  <a:pt x="1848" y="48"/>
                  <a:pt x="1846" y="22"/>
                  <a:pt x="1819" y="22"/>
                </a:cubicBezTo>
                <a:cubicBezTo>
                  <a:pt x="1220" y="16"/>
                  <a:pt x="621" y="34"/>
                  <a:pt x="22" y="39"/>
                </a:cubicBezTo>
                <a:cubicBezTo>
                  <a:pt x="49" y="118"/>
                  <a:pt x="0" y="0"/>
                  <a:pt x="74" y="74"/>
                </a:cubicBezTo>
                <a:cubicBezTo>
                  <a:pt x="102" y="102"/>
                  <a:pt x="74" y="151"/>
                  <a:pt x="117" y="151"/>
                </a:cubicBezTo>
                <a:close/>
              </a:path>
            </a:pathLst>
          </a:custGeom>
          <a:solidFill>
            <a:srgbClr val="6633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19534200">
            <a:off x="5181480" y="1295280"/>
            <a:ext cx="419112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Horizontality: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ocks fall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place forming fla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 rot="19273200">
            <a:off x="4191120" y="3124080"/>
            <a:ext cx="1544400" cy="14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457200" y="2362320"/>
            <a:ext cx="73915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flat horizontal layers. If the rocks are folded or are laying at a steep angle, they must have been disturbed or tilted after 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324480" y="2666880"/>
            <a:ext cx="15242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3048120"/>
            <a:ext cx="1066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3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3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3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9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7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3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7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7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28600" y="2362320"/>
            <a:ext cx="76201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the Law of Horizont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____ horizontal layers. If the rocks are folded or at an angle, they must have been disturbed _____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24480" y="2743200"/>
            <a:ext cx="1524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3505320"/>
            <a:ext cx="1523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3505320"/>
            <a:ext cx="1447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91520" y="3200400"/>
            <a:ext cx="159696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3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9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9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layers of rock as pages of a history b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move pages, the book is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when layers of rock are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1143000"/>
            <a:ext cx="4953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al time scale is the geologic history of the planet from formation to the pres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 starts with large divisions of time called eons and is subdivided into successively smaller units such ass eras and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 time scale  is based on dominant lifeforms, and mass extinction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5" repeatCount="3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-228600" y="1523880"/>
            <a:ext cx="8610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conformiti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re’s how it work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572000" y="3276720"/>
            <a:ext cx="22096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3809880" y="326376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066680" y="326376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3047400" y="32637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333400" y="4254480"/>
            <a:ext cx="14475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4571280" y="42544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065960" y="425448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3809880" y="42544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5333400" y="52452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066680" y="5245200"/>
            <a:ext cx="426744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571280" y="524448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523880"/>
            <a:ext cx="7739280" cy="297180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066680" y="3505320"/>
            <a:ext cx="5716800" cy="99036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066680" y="25146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095160" y="5245200"/>
            <a:ext cx="6858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66680" y="33526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4191120"/>
            <a:ext cx="569736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95880" y="40384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con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athering and ero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gap in geologic 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3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3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3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3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3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3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3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3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3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3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gap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an Unconform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____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7086600" y="16002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89840" y="1066680"/>
            <a:ext cx="1825560" cy="2667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-380880" y="2971800"/>
            <a:ext cx="95248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67183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 rot="21553200">
            <a:off x="6171840" y="67168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w of Cross Cutt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cross cutting relationships states that a fault line or an igneous intrusion must be younger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3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3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3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3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3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3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3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4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445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44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69" dur="2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3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5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9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81" dur="2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483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485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53080" y="6515280"/>
            <a:ext cx="76212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 rot="21553200">
            <a:off x="6019560" y="65152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is the Law of Cross Cutting Relationshi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ult line or an igneous intrusion must be _____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8880" y="1523880"/>
            <a:ext cx="1676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62920" y="1066680"/>
            <a:ext cx="175248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3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3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3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3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3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3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4" dur="5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7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538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540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541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58" dur="2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0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2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4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6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8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70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572" dur="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574" dur="2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-380880" y="1447920"/>
            <a:ext cx="95248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oldest rock and work your way to the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80880" y="2057400"/>
            <a:ext cx="7739280" cy="208764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 rot="21553200">
            <a:off x="60955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772400" y="1600200"/>
            <a:ext cx="1371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153280" y="4572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153280" y="4191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153280" y="3809880"/>
            <a:ext cx="4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153280" y="3429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153280" y="3048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153280" y="27432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53280" y="23623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153280" y="20574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93432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 rot="21553200">
            <a:off x="6171840" y="685800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781680" y="2209680"/>
            <a:ext cx="914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5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4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7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0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9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8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4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3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3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3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3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3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3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3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3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3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3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3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0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2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4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6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8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60" dur="2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62" dur="20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764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766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3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4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3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3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3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-380880" y="1447920"/>
            <a:ext cx="95248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oldest rock and work your way to the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2057400"/>
            <a:ext cx="7739280" cy="208764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 rot="21553200">
            <a:off x="6095520" y="67057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772400" y="1219320"/>
            <a:ext cx="1371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153280" y="4572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153280" y="4191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8153280" y="3809880"/>
            <a:ext cx="4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153280" y="3429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153280" y="3048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153280" y="27432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153280" y="23623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8153280" y="20574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961800" y="39625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05720" y="685800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 rot="21553200">
            <a:off x="6171840" y="685800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rot="3044400">
            <a:off x="3565080" y="42825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781680" y="2209680"/>
            <a:ext cx="914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2273400"/>
            <a:ext cx="1981440" cy="4584600"/>
          </a:xfrm>
          <a:custGeom>
            <a:avLst/>
            <a:gdLst/>
            <a:ahLst/>
            <a:rect l="l" t="t" r="r" b="b"/>
            <a:pathLst>
              <a:path w="1248" h="2888">
                <a:moveTo>
                  <a:pt x="286" y="2873"/>
                </a:moveTo>
                <a:cubicBezTo>
                  <a:pt x="254" y="2826"/>
                  <a:pt x="329" y="2814"/>
                  <a:pt x="310" y="2763"/>
                </a:cubicBezTo>
                <a:cubicBezTo>
                  <a:pt x="339" y="2675"/>
                  <a:pt x="312" y="2650"/>
                  <a:pt x="384" y="2597"/>
                </a:cubicBezTo>
                <a:cubicBezTo>
                  <a:pt x="432" y="2562"/>
                  <a:pt x="477" y="2516"/>
                  <a:pt x="526" y="2484"/>
                </a:cubicBezTo>
                <a:cubicBezTo>
                  <a:pt x="568" y="2425"/>
                  <a:pt x="545" y="2444"/>
                  <a:pt x="586" y="2417"/>
                </a:cubicBezTo>
                <a:cubicBezTo>
                  <a:pt x="599" y="2375"/>
                  <a:pt x="631" y="2344"/>
                  <a:pt x="668" y="2320"/>
                </a:cubicBezTo>
                <a:cubicBezTo>
                  <a:pt x="690" y="2286"/>
                  <a:pt x="710" y="2251"/>
                  <a:pt x="728" y="2215"/>
                </a:cubicBezTo>
                <a:cubicBezTo>
                  <a:pt x="740" y="2163"/>
                  <a:pt x="758" y="2117"/>
                  <a:pt x="788" y="2073"/>
                </a:cubicBezTo>
                <a:cubicBezTo>
                  <a:pt x="802" y="2013"/>
                  <a:pt x="770" y="2050"/>
                  <a:pt x="800" y="1997"/>
                </a:cubicBezTo>
                <a:cubicBezTo>
                  <a:pt x="812" y="1976"/>
                  <a:pt x="820" y="1890"/>
                  <a:pt x="831" y="1868"/>
                </a:cubicBezTo>
                <a:cubicBezTo>
                  <a:pt x="848" y="1779"/>
                  <a:pt x="874" y="1851"/>
                  <a:pt x="874" y="1678"/>
                </a:cubicBezTo>
                <a:cubicBezTo>
                  <a:pt x="874" y="1544"/>
                  <a:pt x="898" y="1303"/>
                  <a:pt x="937" y="1175"/>
                </a:cubicBezTo>
                <a:cubicBezTo>
                  <a:pt x="940" y="1140"/>
                  <a:pt x="939" y="1105"/>
                  <a:pt x="945" y="1071"/>
                </a:cubicBezTo>
                <a:cubicBezTo>
                  <a:pt x="954" y="1017"/>
                  <a:pt x="988" y="961"/>
                  <a:pt x="1012" y="913"/>
                </a:cubicBezTo>
                <a:cubicBezTo>
                  <a:pt x="1027" y="884"/>
                  <a:pt x="1031" y="858"/>
                  <a:pt x="1049" y="831"/>
                </a:cubicBezTo>
                <a:cubicBezTo>
                  <a:pt x="1064" y="773"/>
                  <a:pt x="1046" y="829"/>
                  <a:pt x="1079" y="771"/>
                </a:cubicBezTo>
                <a:cubicBezTo>
                  <a:pt x="1096" y="742"/>
                  <a:pt x="1102" y="704"/>
                  <a:pt x="1117" y="674"/>
                </a:cubicBezTo>
                <a:cubicBezTo>
                  <a:pt x="1136" y="572"/>
                  <a:pt x="1158" y="465"/>
                  <a:pt x="1192" y="367"/>
                </a:cubicBezTo>
                <a:cubicBezTo>
                  <a:pt x="1198" y="331"/>
                  <a:pt x="1207" y="299"/>
                  <a:pt x="1214" y="263"/>
                </a:cubicBezTo>
                <a:cubicBezTo>
                  <a:pt x="1212" y="221"/>
                  <a:pt x="1248" y="79"/>
                  <a:pt x="1177" y="53"/>
                </a:cubicBezTo>
                <a:cubicBezTo>
                  <a:pt x="1105" y="56"/>
                  <a:pt x="1000" y="0"/>
                  <a:pt x="960" y="61"/>
                </a:cubicBezTo>
                <a:cubicBezTo>
                  <a:pt x="899" y="155"/>
                  <a:pt x="957" y="285"/>
                  <a:pt x="952" y="397"/>
                </a:cubicBezTo>
                <a:cubicBezTo>
                  <a:pt x="950" y="441"/>
                  <a:pt x="925" y="503"/>
                  <a:pt x="900" y="539"/>
                </a:cubicBezTo>
                <a:cubicBezTo>
                  <a:pt x="881" y="612"/>
                  <a:pt x="864" y="720"/>
                  <a:pt x="832" y="786"/>
                </a:cubicBezTo>
                <a:cubicBezTo>
                  <a:pt x="822" y="807"/>
                  <a:pt x="814" y="834"/>
                  <a:pt x="803" y="854"/>
                </a:cubicBezTo>
                <a:cubicBezTo>
                  <a:pt x="800" y="860"/>
                  <a:pt x="768" y="907"/>
                  <a:pt x="758" y="921"/>
                </a:cubicBezTo>
                <a:cubicBezTo>
                  <a:pt x="740" y="948"/>
                  <a:pt x="734" y="1002"/>
                  <a:pt x="728" y="1033"/>
                </a:cubicBezTo>
                <a:cubicBezTo>
                  <a:pt x="723" y="1107"/>
                  <a:pt x="688" y="1261"/>
                  <a:pt x="678" y="1341"/>
                </a:cubicBezTo>
                <a:cubicBezTo>
                  <a:pt x="668" y="1421"/>
                  <a:pt x="681" y="1436"/>
                  <a:pt x="666" y="1513"/>
                </a:cubicBezTo>
                <a:cubicBezTo>
                  <a:pt x="657" y="1539"/>
                  <a:pt x="598" y="1777"/>
                  <a:pt x="586" y="1801"/>
                </a:cubicBezTo>
                <a:cubicBezTo>
                  <a:pt x="561" y="1851"/>
                  <a:pt x="574" y="1905"/>
                  <a:pt x="526" y="1938"/>
                </a:cubicBezTo>
                <a:cubicBezTo>
                  <a:pt x="508" y="1965"/>
                  <a:pt x="493" y="1988"/>
                  <a:pt x="466" y="2006"/>
                </a:cubicBezTo>
                <a:cubicBezTo>
                  <a:pt x="456" y="2021"/>
                  <a:pt x="449" y="2038"/>
                  <a:pt x="436" y="2051"/>
                </a:cubicBezTo>
                <a:cubicBezTo>
                  <a:pt x="429" y="2058"/>
                  <a:pt x="420" y="2065"/>
                  <a:pt x="414" y="2073"/>
                </a:cubicBezTo>
                <a:cubicBezTo>
                  <a:pt x="387" y="2108"/>
                  <a:pt x="381" y="2132"/>
                  <a:pt x="346" y="2155"/>
                </a:cubicBezTo>
                <a:cubicBezTo>
                  <a:pt x="328" y="2191"/>
                  <a:pt x="302" y="2218"/>
                  <a:pt x="279" y="2252"/>
                </a:cubicBezTo>
                <a:cubicBezTo>
                  <a:pt x="258" y="2283"/>
                  <a:pt x="242" y="2321"/>
                  <a:pt x="212" y="2342"/>
                </a:cubicBezTo>
                <a:cubicBezTo>
                  <a:pt x="192" y="2372"/>
                  <a:pt x="167" y="2405"/>
                  <a:pt x="137" y="2425"/>
                </a:cubicBezTo>
                <a:cubicBezTo>
                  <a:pt x="116" y="2482"/>
                  <a:pt x="67" y="2524"/>
                  <a:pt x="47" y="2582"/>
                </a:cubicBezTo>
                <a:cubicBezTo>
                  <a:pt x="38" y="2647"/>
                  <a:pt x="19" y="2706"/>
                  <a:pt x="2" y="2769"/>
                </a:cubicBezTo>
                <a:cubicBezTo>
                  <a:pt x="5" y="2799"/>
                  <a:pt x="0" y="2830"/>
                  <a:pt x="10" y="2858"/>
                </a:cubicBezTo>
                <a:cubicBezTo>
                  <a:pt x="13" y="2866"/>
                  <a:pt x="73" y="2888"/>
                  <a:pt x="84" y="2888"/>
                </a:cubicBezTo>
                <a:cubicBezTo>
                  <a:pt x="151" y="2886"/>
                  <a:pt x="219" y="2878"/>
                  <a:pt x="286" y="2873"/>
                </a:cubicBez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876920" y="388620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09880" y="2273400"/>
            <a:ext cx="1981440" cy="4584600"/>
          </a:xfrm>
          <a:custGeom>
            <a:avLst/>
            <a:gdLst/>
            <a:ahLst/>
            <a:rect l="l" t="t" r="r" b="b"/>
            <a:pathLst>
              <a:path w="1248" h="2888">
                <a:moveTo>
                  <a:pt x="286" y="2873"/>
                </a:moveTo>
                <a:cubicBezTo>
                  <a:pt x="254" y="2826"/>
                  <a:pt x="329" y="2814"/>
                  <a:pt x="310" y="2763"/>
                </a:cubicBezTo>
                <a:cubicBezTo>
                  <a:pt x="339" y="2675"/>
                  <a:pt x="312" y="2650"/>
                  <a:pt x="384" y="2597"/>
                </a:cubicBezTo>
                <a:cubicBezTo>
                  <a:pt x="432" y="2562"/>
                  <a:pt x="477" y="2516"/>
                  <a:pt x="526" y="2484"/>
                </a:cubicBezTo>
                <a:cubicBezTo>
                  <a:pt x="568" y="2425"/>
                  <a:pt x="545" y="2444"/>
                  <a:pt x="586" y="2417"/>
                </a:cubicBezTo>
                <a:cubicBezTo>
                  <a:pt x="599" y="2375"/>
                  <a:pt x="631" y="2344"/>
                  <a:pt x="668" y="2320"/>
                </a:cubicBezTo>
                <a:cubicBezTo>
                  <a:pt x="690" y="2286"/>
                  <a:pt x="710" y="2251"/>
                  <a:pt x="728" y="2215"/>
                </a:cubicBezTo>
                <a:cubicBezTo>
                  <a:pt x="740" y="2163"/>
                  <a:pt x="758" y="2117"/>
                  <a:pt x="788" y="2073"/>
                </a:cubicBezTo>
                <a:cubicBezTo>
                  <a:pt x="802" y="2013"/>
                  <a:pt x="770" y="2050"/>
                  <a:pt x="800" y="1997"/>
                </a:cubicBezTo>
                <a:cubicBezTo>
                  <a:pt x="812" y="1976"/>
                  <a:pt x="820" y="1890"/>
                  <a:pt x="831" y="1868"/>
                </a:cubicBezTo>
                <a:cubicBezTo>
                  <a:pt x="848" y="1779"/>
                  <a:pt x="874" y="1851"/>
                  <a:pt x="874" y="1678"/>
                </a:cubicBezTo>
                <a:cubicBezTo>
                  <a:pt x="874" y="1544"/>
                  <a:pt x="898" y="1303"/>
                  <a:pt x="937" y="1175"/>
                </a:cubicBezTo>
                <a:cubicBezTo>
                  <a:pt x="940" y="1140"/>
                  <a:pt x="939" y="1105"/>
                  <a:pt x="945" y="1071"/>
                </a:cubicBezTo>
                <a:cubicBezTo>
                  <a:pt x="954" y="1017"/>
                  <a:pt x="988" y="961"/>
                  <a:pt x="1012" y="913"/>
                </a:cubicBezTo>
                <a:cubicBezTo>
                  <a:pt x="1027" y="884"/>
                  <a:pt x="1031" y="858"/>
                  <a:pt x="1049" y="831"/>
                </a:cubicBezTo>
                <a:cubicBezTo>
                  <a:pt x="1064" y="773"/>
                  <a:pt x="1046" y="829"/>
                  <a:pt x="1079" y="771"/>
                </a:cubicBezTo>
                <a:cubicBezTo>
                  <a:pt x="1096" y="742"/>
                  <a:pt x="1102" y="704"/>
                  <a:pt x="1117" y="674"/>
                </a:cubicBezTo>
                <a:cubicBezTo>
                  <a:pt x="1136" y="572"/>
                  <a:pt x="1158" y="465"/>
                  <a:pt x="1192" y="367"/>
                </a:cubicBezTo>
                <a:cubicBezTo>
                  <a:pt x="1198" y="331"/>
                  <a:pt x="1207" y="299"/>
                  <a:pt x="1214" y="263"/>
                </a:cubicBezTo>
                <a:cubicBezTo>
                  <a:pt x="1212" y="221"/>
                  <a:pt x="1248" y="79"/>
                  <a:pt x="1177" y="53"/>
                </a:cubicBezTo>
                <a:cubicBezTo>
                  <a:pt x="1105" y="56"/>
                  <a:pt x="1000" y="0"/>
                  <a:pt x="960" y="61"/>
                </a:cubicBezTo>
                <a:cubicBezTo>
                  <a:pt x="899" y="155"/>
                  <a:pt x="957" y="285"/>
                  <a:pt x="952" y="397"/>
                </a:cubicBezTo>
                <a:cubicBezTo>
                  <a:pt x="950" y="441"/>
                  <a:pt x="925" y="503"/>
                  <a:pt x="900" y="539"/>
                </a:cubicBezTo>
                <a:cubicBezTo>
                  <a:pt x="881" y="612"/>
                  <a:pt x="864" y="720"/>
                  <a:pt x="832" y="786"/>
                </a:cubicBezTo>
                <a:cubicBezTo>
                  <a:pt x="822" y="807"/>
                  <a:pt x="814" y="834"/>
                  <a:pt x="803" y="854"/>
                </a:cubicBezTo>
                <a:cubicBezTo>
                  <a:pt x="800" y="860"/>
                  <a:pt x="768" y="907"/>
                  <a:pt x="758" y="921"/>
                </a:cubicBezTo>
                <a:cubicBezTo>
                  <a:pt x="740" y="948"/>
                  <a:pt x="734" y="1002"/>
                  <a:pt x="728" y="1033"/>
                </a:cubicBezTo>
                <a:cubicBezTo>
                  <a:pt x="723" y="1107"/>
                  <a:pt x="688" y="1261"/>
                  <a:pt x="678" y="1341"/>
                </a:cubicBezTo>
                <a:cubicBezTo>
                  <a:pt x="668" y="1421"/>
                  <a:pt x="681" y="1436"/>
                  <a:pt x="666" y="1513"/>
                </a:cubicBezTo>
                <a:cubicBezTo>
                  <a:pt x="657" y="1539"/>
                  <a:pt x="598" y="1777"/>
                  <a:pt x="586" y="1801"/>
                </a:cubicBezTo>
                <a:cubicBezTo>
                  <a:pt x="561" y="1851"/>
                  <a:pt x="574" y="1905"/>
                  <a:pt x="526" y="1938"/>
                </a:cubicBezTo>
                <a:cubicBezTo>
                  <a:pt x="508" y="1965"/>
                  <a:pt x="493" y="1988"/>
                  <a:pt x="466" y="2006"/>
                </a:cubicBezTo>
                <a:cubicBezTo>
                  <a:pt x="456" y="2021"/>
                  <a:pt x="449" y="2038"/>
                  <a:pt x="436" y="2051"/>
                </a:cubicBezTo>
                <a:cubicBezTo>
                  <a:pt x="429" y="2058"/>
                  <a:pt x="420" y="2065"/>
                  <a:pt x="414" y="2073"/>
                </a:cubicBezTo>
                <a:cubicBezTo>
                  <a:pt x="387" y="2108"/>
                  <a:pt x="381" y="2132"/>
                  <a:pt x="346" y="2155"/>
                </a:cubicBezTo>
                <a:cubicBezTo>
                  <a:pt x="328" y="2191"/>
                  <a:pt x="302" y="2218"/>
                  <a:pt x="279" y="2252"/>
                </a:cubicBezTo>
                <a:cubicBezTo>
                  <a:pt x="258" y="2283"/>
                  <a:pt x="242" y="2321"/>
                  <a:pt x="212" y="2342"/>
                </a:cubicBezTo>
                <a:cubicBezTo>
                  <a:pt x="192" y="2372"/>
                  <a:pt x="167" y="2405"/>
                  <a:pt x="137" y="2425"/>
                </a:cubicBezTo>
                <a:cubicBezTo>
                  <a:pt x="116" y="2482"/>
                  <a:pt x="67" y="2524"/>
                  <a:pt x="47" y="2582"/>
                </a:cubicBezTo>
                <a:cubicBezTo>
                  <a:pt x="38" y="2647"/>
                  <a:pt x="19" y="2706"/>
                  <a:pt x="2" y="2769"/>
                </a:cubicBezTo>
                <a:cubicBezTo>
                  <a:pt x="5" y="2799"/>
                  <a:pt x="0" y="2830"/>
                  <a:pt x="10" y="2858"/>
                </a:cubicBezTo>
                <a:cubicBezTo>
                  <a:pt x="13" y="2866"/>
                  <a:pt x="73" y="2888"/>
                  <a:pt x="84" y="2888"/>
                </a:cubicBezTo>
                <a:cubicBezTo>
                  <a:pt x="151" y="2886"/>
                  <a:pt x="219" y="2878"/>
                  <a:pt x="286" y="2873"/>
                </a:cubicBez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876920" y="40384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153280" y="16765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1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7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2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8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4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7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0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3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9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2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5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8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4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7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0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3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6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9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2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3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3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3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5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3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3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5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5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9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86" dur="2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88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0" dur="2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2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4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6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8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00" dur="2000" fill="hold"/>
                                        <p:tgtEl>
                                          <p:spTgt spid="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02" dur="20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3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0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3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3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3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__ states that Sediments are deposited in flat 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ck layers are missing in the geologic record we call it an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  ____   relationships states that A fault line or an igneous intrusion must be younger than the rock it cut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2514600"/>
            <a:ext cx="1676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165800" y="2209680"/>
            <a:ext cx="1756080" cy="221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Absolut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how scientists use absolute dating to determine the exact age of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concept of  half life and 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hook up 100 pennies in a box, how many do you think would be heads????  How many do you think would be tail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ay you have 100 dollars and you can only spend half of it every day.  How much money would you have after 2 day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 major time eras includ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s and atmospher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brates, plants and fish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mmal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4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6" dur="3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" dur="3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" dur="3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2" dur="3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4" dur="3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6" dur="3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8" dur="3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0" dur="3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2" dur="3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4" dur="3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6" dur="3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8" dur="3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0" dur="3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2" dur="3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4" dur="3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6" dur="3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8" dur="3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0" dur="3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2" dur="3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4" dur="3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6" dur="3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8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-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bsolute 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know the earth is 4.6 billion years 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know when dinosaurs went extin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nswer those questions by using Absolute 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exact age of a rock or fos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nalyzing the properties of atoms in rocks and fossils we can get a really accurate date for when the rock or fossil 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0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after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65" dur="35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67" dur="35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69" dur="35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1" dur="35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3" dur="35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5" dur="35000" fill="hold"/>
                                        <p:tgtEl>
                                          <p:spTgt spid="9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7" dur="35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9" dur="35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1" dur="350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3" dur="35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5" dur="35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7" dur="35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9" dur="35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1" dur="35000" fill="hold"/>
                                        <p:tgtEl>
                                          <p:spTgt spid="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3" dur="35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5" dur="35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7" dur="35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9" dur="35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101" dur="35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103" dur="35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105" dur="35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bsolute D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exact _____ of a rock or fos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Different from relative dating because it gives an exact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315200" y="19810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162920" y="20574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dioactive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adioactive Decay: The decay of one element into another element,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would be w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s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nium i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 and lead is the what we call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augh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0880" y="37339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010280" y="3809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522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2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 Materia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unstable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67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aughter Material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(s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5530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2" dur="250" autoRev="1" fill="hold"/>
                                        <p:tgtEl>
                                          <p:spTgt spid="9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5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2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7 -3.33333E-006 E">
                                      <p:cBhvr>
                                        <p:cTn id="2128" dur="2000" fill="hold"/>
                                        <p:tgtEl>
                                          <p:spTgt spid="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Radioactive Dec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The decay of one element into another 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Ex.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, the unstable parent material decays into the stable daughter product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467480" y="12952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91520" y="13716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0880" y="37339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010280" y="3809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522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52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 Materia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unstable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867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aughter Material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(s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5530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0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7" dur="250" autoRev="1" fill="hold"/>
                                        <p:tgtEl>
                                          <p:spTgt spid="9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0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51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7 -3.33333E-006 E">
                                      <p:cBhvr>
                                        <p:cTn id="2153" dur="2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252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7315200" y="1447920"/>
            <a:ext cx="1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315200" y="1523880"/>
            <a:ext cx="360360" cy="75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7315200" y="1828800"/>
            <a:ext cx="762120" cy="42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7315200" y="22860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315200" y="2286000"/>
            <a:ext cx="762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162920" y="990720"/>
            <a:ext cx="1365120" cy="1888920"/>
          </a:xfrm>
          <a:custGeom>
            <a:avLst/>
            <a:gdLst/>
            <a:ahLst/>
            <a:rect l="l" t="t" r="r" b="b"/>
            <a:pathLst>
              <a:path w="860" h="1190">
                <a:moveTo>
                  <a:pt x="82" y="768"/>
                </a:moveTo>
                <a:cubicBezTo>
                  <a:pt x="76" y="651"/>
                  <a:pt x="54" y="234"/>
                  <a:pt x="50" y="117"/>
                </a:cubicBezTo>
                <a:cubicBezTo>
                  <a:pt x="46" y="0"/>
                  <a:pt x="0" y="64"/>
                  <a:pt x="57" y="67"/>
                </a:cubicBezTo>
                <a:cubicBezTo>
                  <a:pt x="114" y="70"/>
                  <a:pt x="281" y="86"/>
                  <a:pt x="390" y="136"/>
                </a:cubicBezTo>
                <a:cubicBezTo>
                  <a:pt x="499" y="186"/>
                  <a:pt x="638" y="274"/>
                  <a:pt x="713" y="370"/>
                </a:cubicBezTo>
                <a:cubicBezTo>
                  <a:pt x="788" y="466"/>
                  <a:pt x="822" y="612"/>
                  <a:pt x="841" y="713"/>
                </a:cubicBezTo>
                <a:cubicBezTo>
                  <a:pt x="860" y="814"/>
                  <a:pt x="844" y="897"/>
                  <a:pt x="826" y="976"/>
                </a:cubicBezTo>
                <a:cubicBezTo>
                  <a:pt x="809" y="1055"/>
                  <a:pt x="804" y="1184"/>
                  <a:pt x="739" y="1187"/>
                </a:cubicBezTo>
                <a:cubicBezTo>
                  <a:pt x="674" y="1190"/>
                  <a:pt x="550" y="1055"/>
                  <a:pt x="440" y="994"/>
                </a:cubicBezTo>
                <a:cubicBezTo>
                  <a:pt x="330" y="933"/>
                  <a:pt x="141" y="859"/>
                  <a:pt x="82" y="822"/>
                </a:cubicBezTo>
                <a:cubicBezTo>
                  <a:pt x="22" y="785"/>
                  <a:pt x="82" y="885"/>
                  <a:pt x="82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52280" y="838080"/>
            <a:ext cx="426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alf life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s the time it takes for half of the of the parent material to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suppose I have a rock sample that has 100 atom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lf-Life of Uranium is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4.5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4.5 billion years (1 half life) half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have decayed int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1 half life, you are left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% 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0%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010280" y="16002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 hal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2428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95288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724280" y="3200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029200" y="3124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029200" y="40384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 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of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8" dur="indefinite" restart="never" nodeType="tmRoot">
          <p:childTnLst>
            <p:seq>
              <p:cTn id="2159" dur="indefinite" nodeType="mainSeq">
                <p:childTnLst>
                  <p:par>
                    <p:cTn id="2160" fill="hold">
                      <p:stCondLst>
                        <p:cond delay="0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7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8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500"/>
                            </p:stCondLst>
                            <p:childTnLst>
                              <p:par>
                                <p:cTn id="218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8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9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0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0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1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18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2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2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3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3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4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4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4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11480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162920" y="990720"/>
            <a:ext cx="1334880" cy="1888920"/>
          </a:xfrm>
          <a:custGeom>
            <a:avLst/>
            <a:gdLst/>
            <a:ahLst/>
            <a:rect l="l" t="t" r="r" b="b"/>
            <a:pathLst>
              <a:path w="841" h="1190">
                <a:moveTo>
                  <a:pt x="95" y="768"/>
                </a:moveTo>
                <a:cubicBezTo>
                  <a:pt x="90" y="651"/>
                  <a:pt x="68" y="234"/>
                  <a:pt x="64" y="117"/>
                </a:cubicBezTo>
                <a:cubicBezTo>
                  <a:pt x="60" y="0"/>
                  <a:pt x="0" y="58"/>
                  <a:pt x="71" y="67"/>
                </a:cubicBezTo>
                <a:cubicBezTo>
                  <a:pt x="142" y="76"/>
                  <a:pt x="375" y="99"/>
                  <a:pt x="493" y="171"/>
                </a:cubicBezTo>
                <a:cubicBezTo>
                  <a:pt x="611" y="243"/>
                  <a:pt x="720" y="406"/>
                  <a:pt x="777" y="496"/>
                </a:cubicBezTo>
                <a:cubicBezTo>
                  <a:pt x="834" y="587"/>
                  <a:pt x="827" y="633"/>
                  <a:pt x="834" y="713"/>
                </a:cubicBezTo>
                <a:cubicBezTo>
                  <a:pt x="841" y="794"/>
                  <a:pt x="837" y="897"/>
                  <a:pt x="820" y="976"/>
                </a:cubicBezTo>
                <a:cubicBezTo>
                  <a:pt x="803" y="1055"/>
                  <a:pt x="798" y="1184"/>
                  <a:pt x="735" y="1187"/>
                </a:cubicBezTo>
                <a:cubicBezTo>
                  <a:pt x="672" y="1190"/>
                  <a:pt x="538" y="1055"/>
                  <a:pt x="444" y="994"/>
                </a:cubicBezTo>
                <a:cubicBezTo>
                  <a:pt x="350" y="933"/>
                  <a:pt x="227" y="858"/>
                  <a:pt x="169" y="820"/>
                </a:cubicBezTo>
                <a:cubicBezTo>
                  <a:pt x="111" y="782"/>
                  <a:pt x="110" y="779"/>
                  <a:pt x="95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52280" y="838080"/>
            <a:ext cx="426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w much Lead and Uranium is left after another 4.5 billion year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 half lives)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find out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lf-Life of Uranium is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4.5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another 4.5 billion years (2 half lives) half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have decayed int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2 half lives, you are left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% 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5%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572000" y="2362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800600" y="22096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72000" y="3200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800600" y="30481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315200" y="2286000"/>
            <a:ext cx="762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315200" y="2274840"/>
            <a:ext cx="457200" cy="77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315200" y="2254320"/>
            <a:ext cx="0" cy="793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6934320" y="2287440"/>
            <a:ext cx="380880" cy="6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6552720" y="22860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248520" y="2197080"/>
            <a:ext cx="2203200" cy="1308240"/>
          </a:xfrm>
          <a:custGeom>
            <a:avLst/>
            <a:gdLst/>
            <a:ahLst/>
            <a:rect l="l" t="t" r="r" b="b"/>
            <a:pathLst>
              <a:path w="1388" h="824">
                <a:moveTo>
                  <a:pt x="710" y="70"/>
                </a:moveTo>
                <a:cubicBezTo>
                  <a:pt x="814" y="135"/>
                  <a:pt x="1184" y="363"/>
                  <a:pt x="1285" y="428"/>
                </a:cubicBezTo>
                <a:cubicBezTo>
                  <a:pt x="1388" y="494"/>
                  <a:pt x="1375" y="409"/>
                  <a:pt x="1324" y="464"/>
                </a:cubicBezTo>
                <a:cubicBezTo>
                  <a:pt x="1274" y="520"/>
                  <a:pt x="1116" y="706"/>
                  <a:pt x="984" y="766"/>
                </a:cubicBezTo>
                <a:cubicBezTo>
                  <a:pt x="852" y="824"/>
                  <a:pt x="649" y="822"/>
                  <a:pt x="537" y="818"/>
                </a:cubicBezTo>
                <a:cubicBezTo>
                  <a:pt x="425" y="813"/>
                  <a:pt x="390" y="779"/>
                  <a:pt x="317" y="739"/>
                </a:cubicBezTo>
                <a:cubicBezTo>
                  <a:pt x="244" y="697"/>
                  <a:pt x="148" y="613"/>
                  <a:pt x="101" y="571"/>
                </a:cubicBezTo>
                <a:cubicBezTo>
                  <a:pt x="54" y="529"/>
                  <a:pt x="0" y="540"/>
                  <a:pt x="36" y="489"/>
                </a:cubicBezTo>
                <a:cubicBezTo>
                  <a:pt x="72" y="438"/>
                  <a:pt x="215" y="337"/>
                  <a:pt x="320" y="262"/>
                </a:cubicBezTo>
                <a:cubicBezTo>
                  <a:pt x="425" y="187"/>
                  <a:pt x="599" y="70"/>
                  <a:pt x="664" y="38"/>
                </a:cubicBezTo>
                <a:cubicBezTo>
                  <a:pt x="729" y="6"/>
                  <a:pt x="610" y="0"/>
                  <a:pt x="710" y="70"/>
                </a:cubicBezTo>
                <a:close/>
              </a:path>
            </a:pathLst>
          </a:custGeom>
          <a:solidFill>
            <a:srgbClr val="9966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629400" y="2819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econd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029200" y="40384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%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5%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0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8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8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2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8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8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9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9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0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10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1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1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7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2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252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162920" y="990720"/>
            <a:ext cx="1334880" cy="1888920"/>
          </a:xfrm>
          <a:custGeom>
            <a:avLst/>
            <a:gdLst/>
            <a:ahLst/>
            <a:rect l="l" t="t" r="r" b="b"/>
            <a:pathLst>
              <a:path w="841" h="1190">
                <a:moveTo>
                  <a:pt x="95" y="768"/>
                </a:moveTo>
                <a:cubicBezTo>
                  <a:pt x="90" y="651"/>
                  <a:pt x="68" y="234"/>
                  <a:pt x="64" y="117"/>
                </a:cubicBezTo>
                <a:cubicBezTo>
                  <a:pt x="60" y="0"/>
                  <a:pt x="0" y="58"/>
                  <a:pt x="71" y="67"/>
                </a:cubicBezTo>
                <a:cubicBezTo>
                  <a:pt x="142" y="76"/>
                  <a:pt x="375" y="99"/>
                  <a:pt x="493" y="171"/>
                </a:cubicBezTo>
                <a:cubicBezTo>
                  <a:pt x="611" y="243"/>
                  <a:pt x="720" y="406"/>
                  <a:pt x="777" y="496"/>
                </a:cubicBezTo>
                <a:cubicBezTo>
                  <a:pt x="834" y="587"/>
                  <a:pt x="827" y="633"/>
                  <a:pt x="834" y="713"/>
                </a:cubicBezTo>
                <a:cubicBezTo>
                  <a:pt x="841" y="794"/>
                  <a:pt x="837" y="897"/>
                  <a:pt x="820" y="976"/>
                </a:cubicBezTo>
                <a:cubicBezTo>
                  <a:pt x="803" y="1055"/>
                  <a:pt x="798" y="1184"/>
                  <a:pt x="735" y="1187"/>
                </a:cubicBezTo>
                <a:cubicBezTo>
                  <a:pt x="672" y="1190"/>
                  <a:pt x="538" y="1054"/>
                  <a:pt x="444" y="994"/>
                </a:cubicBezTo>
                <a:cubicBezTo>
                  <a:pt x="350" y="934"/>
                  <a:pt x="227" y="866"/>
                  <a:pt x="169" y="828"/>
                </a:cubicBezTo>
                <a:cubicBezTo>
                  <a:pt x="111" y="790"/>
                  <a:pt x="110" y="780"/>
                  <a:pt x="95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1066680"/>
            <a:ext cx="3886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w much Lead and Uranium is left after another 4.5 billion year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 half lives)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find out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another 4.5 billion yea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 half liv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f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decay int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3 half lives, you are left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.5% 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87.5%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72428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724280" y="3200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029200" y="3124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6552720" y="22860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6477120" y="2274840"/>
            <a:ext cx="83808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6552720" y="1905120"/>
            <a:ext cx="762120" cy="34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6934320" y="1599840"/>
            <a:ext cx="380880" cy="68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315200" y="1447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078600" y="977760"/>
            <a:ext cx="1334880" cy="2001960"/>
          </a:xfrm>
          <a:custGeom>
            <a:avLst/>
            <a:gdLst/>
            <a:ahLst/>
            <a:rect l="l" t="t" r="r" b="b"/>
            <a:pathLst>
              <a:path w="841" h="1261">
                <a:moveTo>
                  <a:pt x="435" y="1023"/>
                </a:moveTo>
                <a:cubicBezTo>
                  <a:pt x="330" y="1082"/>
                  <a:pt x="213" y="1146"/>
                  <a:pt x="159" y="1173"/>
                </a:cubicBezTo>
                <a:cubicBezTo>
                  <a:pt x="104" y="1201"/>
                  <a:pt x="131" y="1261"/>
                  <a:pt x="108" y="1190"/>
                </a:cubicBezTo>
                <a:cubicBezTo>
                  <a:pt x="84" y="1118"/>
                  <a:pt x="0" y="889"/>
                  <a:pt x="14" y="745"/>
                </a:cubicBezTo>
                <a:cubicBezTo>
                  <a:pt x="28" y="601"/>
                  <a:pt x="130" y="426"/>
                  <a:pt x="189" y="330"/>
                </a:cubicBezTo>
                <a:cubicBezTo>
                  <a:pt x="249" y="236"/>
                  <a:pt x="296" y="222"/>
                  <a:pt x="367" y="178"/>
                </a:cubicBezTo>
                <a:cubicBezTo>
                  <a:pt x="439" y="135"/>
                  <a:pt x="559" y="93"/>
                  <a:pt x="619" y="73"/>
                </a:cubicBezTo>
                <a:cubicBezTo>
                  <a:pt x="679" y="53"/>
                  <a:pt x="703" y="0"/>
                  <a:pt x="730" y="57"/>
                </a:cubicBezTo>
                <a:cubicBezTo>
                  <a:pt x="757" y="114"/>
                  <a:pt x="771" y="290"/>
                  <a:pt x="780" y="417"/>
                </a:cubicBezTo>
                <a:cubicBezTo>
                  <a:pt x="789" y="544"/>
                  <a:pt x="841" y="719"/>
                  <a:pt x="784" y="820"/>
                </a:cubicBezTo>
                <a:cubicBezTo>
                  <a:pt x="727" y="921"/>
                  <a:pt x="540" y="964"/>
                  <a:pt x="435" y="1023"/>
                </a:cubicBezTo>
                <a:close/>
              </a:path>
            </a:pathLst>
          </a:custGeom>
          <a:solidFill>
            <a:srgbClr val="66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467480" y="1752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st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952880" y="40384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.5% U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87.5%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248520" y="2278080"/>
            <a:ext cx="2182680" cy="1222200"/>
          </a:xfrm>
          <a:custGeom>
            <a:avLst/>
            <a:gdLst/>
            <a:ahLst/>
            <a:rect l="l" t="t" r="r" b="b"/>
            <a:pathLst>
              <a:path w="1375" h="770">
                <a:moveTo>
                  <a:pt x="1013" y="179"/>
                </a:moveTo>
                <a:cubicBezTo>
                  <a:pt x="1116" y="241"/>
                  <a:pt x="1233" y="335"/>
                  <a:pt x="1285" y="374"/>
                </a:cubicBezTo>
                <a:cubicBezTo>
                  <a:pt x="1337" y="413"/>
                  <a:pt x="1375" y="355"/>
                  <a:pt x="1324" y="410"/>
                </a:cubicBezTo>
                <a:cubicBezTo>
                  <a:pt x="1274" y="466"/>
                  <a:pt x="1116" y="652"/>
                  <a:pt x="984" y="712"/>
                </a:cubicBezTo>
                <a:cubicBezTo>
                  <a:pt x="852" y="770"/>
                  <a:pt x="649" y="768"/>
                  <a:pt x="537" y="764"/>
                </a:cubicBezTo>
                <a:cubicBezTo>
                  <a:pt x="425" y="759"/>
                  <a:pt x="390" y="725"/>
                  <a:pt x="317" y="685"/>
                </a:cubicBezTo>
                <a:cubicBezTo>
                  <a:pt x="244" y="643"/>
                  <a:pt x="148" y="559"/>
                  <a:pt x="101" y="517"/>
                </a:cubicBezTo>
                <a:cubicBezTo>
                  <a:pt x="54" y="475"/>
                  <a:pt x="0" y="486"/>
                  <a:pt x="36" y="435"/>
                </a:cubicBezTo>
                <a:cubicBezTo>
                  <a:pt x="72" y="384"/>
                  <a:pt x="215" y="280"/>
                  <a:pt x="320" y="208"/>
                </a:cubicBezTo>
                <a:cubicBezTo>
                  <a:pt x="425" y="136"/>
                  <a:pt x="554" y="10"/>
                  <a:pt x="669" y="5"/>
                </a:cubicBezTo>
                <a:cubicBezTo>
                  <a:pt x="784" y="0"/>
                  <a:pt x="910" y="117"/>
                  <a:pt x="1013" y="179"/>
                </a:cubicBezTo>
                <a:close/>
              </a:path>
            </a:pathLst>
          </a:custGeom>
          <a:solidFill>
            <a:srgbClr val="9966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5308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2nd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257800" y="1676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3rd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0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5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63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6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4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7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0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81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9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Half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alf life is the time it takes for half of the of the parent material to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Ex. Uranium has a half life of 4.5 billion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886200" y="12193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886200" y="1447920"/>
            <a:ext cx="1523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252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315200" y="1447920"/>
            <a:ext cx="1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315200" y="1523880"/>
            <a:ext cx="360360" cy="75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7315200" y="1828800"/>
            <a:ext cx="762120" cy="42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315200" y="22860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315200" y="2286000"/>
            <a:ext cx="762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188120" y="990720"/>
            <a:ext cx="1365480" cy="1888920"/>
          </a:xfrm>
          <a:custGeom>
            <a:avLst/>
            <a:gdLst/>
            <a:ahLst/>
            <a:rect l="l" t="t" r="r" b="b"/>
            <a:pathLst>
              <a:path w="860" h="1190">
                <a:moveTo>
                  <a:pt x="82" y="768"/>
                </a:moveTo>
                <a:cubicBezTo>
                  <a:pt x="76" y="651"/>
                  <a:pt x="54" y="234"/>
                  <a:pt x="50" y="117"/>
                </a:cubicBezTo>
                <a:cubicBezTo>
                  <a:pt x="46" y="0"/>
                  <a:pt x="0" y="64"/>
                  <a:pt x="57" y="67"/>
                </a:cubicBezTo>
                <a:cubicBezTo>
                  <a:pt x="114" y="70"/>
                  <a:pt x="281" y="86"/>
                  <a:pt x="390" y="136"/>
                </a:cubicBezTo>
                <a:cubicBezTo>
                  <a:pt x="499" y="186"/>
                  <a:pt x="638" y="274"/>
                  <a:pt x="713" y="370"/>
                </a:cubicBezTo>
                <a:cubicBezTo>
                  <a:pt x="788" y="466"/>
                  <a:pt x="822" y="612"/>
                  <a:pt x="841" y="713"/>
                </a:cubicBezTo>
                <a:cubicBezTo>
                  <a:pt x="860" y="814"/>
                  <a:pt x="844" y="897"/>
                  <a:pt x="826" y="976"/>
                </a:cubicBezTo>
                <a:cubicBezTo>
                  <a:pt x="809" y="1055"/>
                  <a:pt x="804" y="1184"/>
                  <a:pt x="739" y="1187"/>
                </a:cubicBezTo>
                <a:cubicBezTo>
                  <a:pt x="674" y="1190"/>
                  <a:pt x="550" y="1055"/>
                  <a:pt x="440" y="994"/>
                </a:cubicBezTo>
                <a:cubicBezTo>
                  <a:pt x="330" y="933"/>
                  <a:pt x="141" y="859"/>
                  <a:pt x="82" y="822"/>
                </a:cubicBezTo>
                <a:cubicBezTo>
                  <a:pt x="22" y="785"/>
                  <a:pt x="82" y="885"/>
                  <a:pt x="82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010280" y="1447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 half life 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29200" y="40384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 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of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4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1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1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2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2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2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2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33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4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4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5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6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6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4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75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8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6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thinks they understand half-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r" descr=""/>
          <p:cNvPicPr/>
          <p:nvPr/>
        </p:nvPicPr>
        <p:blipFill>
          <a:blip r:embed="rId1"/>
          <a:stretch/>
        </p:blipFill>
        <p:spPr>
          <a:xfrm>
            <a:off x="0" y="1219320"/>
            <a:ext cx="3929040" cy="5029200"/>
          </a:xfrm>
          <a:prstGeom prst="rect">
            <a:avLst/>
          </a:prstGeom>
          <a:ln w="0">
            <a:noFill/>
          </a:ln>
        </p:spPr>
      </p:pic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What is the half life of uranium-23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ccording to this diagram, how much uranium remains after 4.5 Billion years?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After 9 billion years, how much uranium is left? 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11201400" y="-1600200"/>
            <a:ext cx="82296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62120" y="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380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0666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952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5238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7524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380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666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5238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7524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8380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0666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2952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5238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7524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380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0666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5238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24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8380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0666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2952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5238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7524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752480" y="167652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0574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2860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514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7432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8288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5146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8288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0574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2860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8288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2860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5146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8288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0574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5146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38080" y="220968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0"/>
                </a:moveTo>
                <a:cubicBezTo>
                  <a:pt x="56" y="104"/>
                  <a:pt x="112" y="208"/>
                  <a:pt x="192" y="336"/>
                </a:cubicBezTo>
                <a:cubicBezTo>
                  <a:pt x="272" y="464"/>
                  <a:pt x="392" y="648"/>
                  <a:pt x="480" y="768"/>
                </a:cubicBezTo>
                <a:cubicBezTo>
                  <a:pt x="568" y="888"/>
                  <a:pt x="664" y="992"/>
                  <a:pt x="720" y="1056"/>
                </a:cubicBezTo>
                <a:cubicBezTo>
                  <a:pt x="776" y="1120"/>
                  <a:pt x="800" y="1136"/>
                  <a:pt x="816" y="1152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838080" y="1295280"/>
            <a:ext cx="38124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429000" y="3886200"/>
            <a:ext cx="38088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4724280" y="4495680"/>
            <a:ext cx="60984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6095880" y="5105160"/>
            <a:ext cx="762120" cy="53316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7391520" y="5181480"/>
            <a:ext cx="914400" cy="5335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4038480"/>
            <a:ext cx="1295280" cy="914400"/>
          </a:xfrm>
          <a:custGeom>
            <a:avLst/>
            <a:gdLst/>
            <a:ahLst/>
            <a:rect l="l" t="t" r="r" b="b"/>
            <a:pathLst>
              <a:path w="816" h="576">
                <a:moveTo>
                  <a:pt x="0" y="0"/>
                </a:moveTo>
                <a:cubicBezTo>
                  <a:pt x="50" y="44"/>
                  <a:pt x="185" y="179"/>
                  <a:pt x="298" y="266"/>
                </a:cubicBezTo>
                <a:cubicBezTo>
                  <a:pt x="411" y="353"/>
                  <a:pt x="594" y="471"/>
                  <a:pt x="680" y="523"/>
                </a:cubicBezTo>
                <a:cubicBezTo>
                  <a:pt x="766" y="575"/>
                  <a:pt x="788" y="565"/>
                  <a:pt x="816" y="576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0574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838080" y="2286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38080" y="2209680"/>
            <a:ext cx="0" cy="3810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838080" y="6019920"/>
            <a:ext cx="6705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17220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28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172200" y="838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838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aught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943600" y="1371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life = 50,000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rot="3408600">
            <a:off x="647280" y="308556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133720" y="2971800"/>
            <a:ext cx="30456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200400" y="259092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76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9625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1911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5053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962520" y="2895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1911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2767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505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1911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625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1911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5053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358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1911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057400" y="228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621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rot="2257200">
            <a:off x="1904760" y="434304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048120" y="1676520"/>
            <a:ext cx="259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724280" y="32004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029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7150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8006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0292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2578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4864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2578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4864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029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486400" y="3962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715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029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2578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4864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7150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495680" y="24382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49528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cubicBezTo>
                  <a:pt x="49" y="24"/>
                  <a:pt x="188" y="101"/>
                  <a:pt x="292" y="141"/>
                </a:cubicBezTo>
                <a:cubicBezTo>
                  <a:pt x="396" y="181"/>
                  <a:pt x="537" y="215"/>
                  <a:pt x="624" y="240"/>
                </a:cubicBezTo>
                <a:cubicBezTo>
                  <a:pt x="711" y="265"/>
                  <a:pt x="784" y="280"/>
                  <a:pt x="816" y="28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095880" y="31240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.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172200" y="3809880"/>
            <a:ext cx="1295280" cy="129564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2485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4771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7057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343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1629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2485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4771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7057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9343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1629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4771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7057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934320" y="4343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1629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2485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4771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7057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9343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2485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4771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934320" y="4800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724280" y="5410080"/>
            <a:ext cx="1371600" cy="239760"/>
          </a:xfrm>
          <a:custGeom>
            <a:avLst/>
            <a:gdLst/>
            <a:ahLst/>
            <a:rect l="l" t="t" r="r" b="b"/>
            <a:pathLst>
              <a:path w="864" h="151">
                <a:moveTo>
                  <a:pt x="0" y="0"/>
                </a:moveTo>
                <a:cubicBezTo>
                  <a:pt x="56" y="16"/>
                  <a:pt x="112" y="31"/>
                  <a:pt x="192" y="48"/>
                </a:cubicBezTo>
                <a:cubicBezTo>
                  <a:pt x="272" y="65"/>
                  <a:pt x="384" y="86"/>
                  <a:pt x="480" y="102"/>
                </a:cubicBezTo>
                <a:cubicBezTo>
                  <a:pt x="576" y="118"/>
                  <a:pt x="704" y="137"/>
                  <a:pt x="768" y="144"/>
                </a:cubicBezTo>
                <a:cubicBezTo>
                  <a:pt x="832" y="151"/>
                  <a:pt x="848" y="144"/>
                  <a:pt x="864" y="144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648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7696080" y="38862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7724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001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8229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458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686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7724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80010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229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458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6868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7724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0010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82296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84582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86868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77724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80010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82296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4582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6868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80010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82296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84582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86868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172200" y="5638680"/>
            <a:ext cx="1219320" cy="76320"/>
          </a:xfrm>
          <a:custGeom>
            <a:avLst/>
            <a:gdLst/>
            <a:ahLst/>
            <a:rect l="l" t="t" r="r" b="b"/>
            <a:pathLst>
              <a:path w="768" h="48">
                <a:moveTo>
                  <a:pt x="0" y="0"/>
                </a:moveTo>
                <a:cubicBezTo>
                  <a:pt x="64" y="6"/>
                  <a:pt x="257" y="28"/>
                  <a:pt x="385" y="36"/>
                </a:cubicBezTo>
                <a:cubicBezTo>
                  <a:pt x="513" y="44"/>
                  <a:pt x="688" y="46"/>
                  <a:pt x="768" y="4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0199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3152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42900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7242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838080" y="3124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3915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362320" y="632448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Half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838080" y="40384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838080" y="49528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rot="16200000">
            <a:off x="-1599840" y="38098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28600" y="2895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52280" y="1905120"/>
            <a:ext cx="83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28600" y="38098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52280" y="4724280"/>
            <a:ext cx="83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rot="1202400">
            <a:off x="3276360" y="510516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rot="629400">
            <a:off x="4648320" y="5410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019920" y="55627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9810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276720" y="60199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720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9436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4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2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9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1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0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1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2" dur="8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5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6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67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7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268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81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68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84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68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8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68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69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7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69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270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0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704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05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70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0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71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11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8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3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8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1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4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7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3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6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9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2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5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8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7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3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9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2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5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8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4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7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2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6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2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5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8" dur="8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823" dur="2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24" dur="2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826" dur="2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27" dur="2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829" dur="2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0" dur="2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1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832" dur="2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3" dur="2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835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6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2838" dur="2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9" dur="2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1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9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2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5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1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0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3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6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2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5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8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4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7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6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9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2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5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8" dur="2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1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4" dur="8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7" dur="5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9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40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1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2942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43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2945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46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0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6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8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3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6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5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8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1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4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2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0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9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2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5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8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1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4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0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3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9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2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8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2" dur="8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5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7" dur="2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048" dur="2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3050" dur="2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051" dur="2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5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8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3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6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9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2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2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2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0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6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9" dur="2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2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5" dur="2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8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1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2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0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6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9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2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5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8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2" dur="8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5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7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148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2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Geologic Time Scal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733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cale from the beginning of earth to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roken into time divisions such as Eras, &amp; Periods that are based on the ____record, dominant life forms, and mass ____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752480"/>
            <a:ext cx="175284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35" repeatCount="3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ld vs. Young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Uranium half life to measure the age of the earth, which is ve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how would we measure something that is younger, like tree rings or artifacts from an ancien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a radioactive form of carbon) has a half-life of 5,730 years, we can use it to date rocks that are much younger (unlike uranium, which has a half-life of 4.5 billion year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5,730 years Carbon-14 will decay into stable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diometric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029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geologist who studies rocks in order figure out earth’s history, these radioactive elements that decay are like a clock ticking away, keeping track of time since that’s passed since earth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metric dating has allowed us to figure out Earth’s history in chronological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Radiometric Dating: A dating method that uses the rate of decay of radioactive atoms in rocks by the amount of parent and daughter product to determine the absolute age of a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638680" y="1523880"/>
            <a:ext cx="2895840" cy="24130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Radiometric D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Dating method that uses the rate of decay of radioactive atoms in rocks by the amount of parent and daughter product to _____ the absolute age of a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010280" y="21337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58000" y="220968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4444920"/>
            <a:ext cx="2895480" cy="2413080"/>
          </a:xfrm>
          <a:prstGeom prst="rect">
            <a:avLst/>
          </a:prstGeom>
          <a:ln w="0">
            <a:noFill/>
          </a:ln>
        </p:spPr>
      </p:pic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5486400" y="505476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6" dur="indefinite" restart="never" nodeType="tmRoot">
          <p:childTnLst>
            <p:seq>
              <p:cTn id="3157" dur="indefinite" nodeType="mainSeq">
                <p:childTnLst>
                  <p:par>
                    <p:cTn id="3158" fill="hold">
                      <p:stCondLst>
                        <p:cond delay="0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2" dur="2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5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5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6933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following scenario to complete the answer below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piece of co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made of carbon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a cave man’s fire is found to have about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 The half life of Carbon-14 is 573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 is the _____ material and Nitrogen is the _____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 is the half life of 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veman’s coal and fire is ______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’s use _____dating to determine the absolute ____of rock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315200" y="3808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162920" y="4572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7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52280" y="2971800"/>
            <a:ext cx="24386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895480" y="3048120"/>
            <a:ext cx="2514600" cy="685800"/>
          </a:xfrm>
          <a:prstGeom prst="rightArrow">
            <a:avLst>
              <a:gd name="adj1" fmla="val 54167"/>
              <a:gd name="adj2" fmla="val 11410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730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86400" y="2971800"/>
            <a:ext cx="16002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086600" y="2971800"/>
            <a:ext cx="1600200" cy="838080"/>
          </a:xfrm>
          <a:prstGeom prst="rect">
            <a:avLst/>
          </a:prstGeom>
          <a:solidFill>
            <a:srgbClr val="ded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6" dur="indefinite" restart="never" nodeType="tmRoot">
          <p:childTnLst>
            <p:seq>
              <p:cTn id="3187" dur="indefinite" nodeType="mainSeq">
                <p:childTnLst>
                  <p:par>
                    <p:cTn id="3188" fill="hold">
                      <p:stCondLst>
                        <p:cond delay="0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2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5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4191120"/>
            <a:ext cx="967752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9677520" y="-8380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 flipH="1">
            <a:off x="-1676880" y="-1523880"/>
            <a:ext cx="1543320" cy="1187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1752480" y="4114800"/>
            <a:ext cx="11277360" cy="380988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762120" y="2971800"/>
            <a:ext cx="1199880" cy="19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09680" y="685800"/>
            <a:ext cx="3733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as a harsh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eorites bombarded our ea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volcanoes spewed out g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5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371600" y="60948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slowly formed over millions of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volcanoes released s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of these gases was steam or (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629400" y="-152280"/>
            <a:ext cx="2286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as what our planet was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llion years--90% of earth’s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ientists call this period the Precambr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69200" y="1224000"/>
            <a:ext cx="1450800" cy="2301840"/>
          </a:xfrm>
          <a:custGeom>
            <a:avLst/>
            <a:gdLst/>
            <a:ahLst/>
            <a:rect l="l" t="t" r="r" b="b"/>
            <a:pathLst>
              <a:path w="914" h="1450">
                <a:moveTo>
                  <a:pt x="806" y="1407"/>
                </a:moveTo>
                <a:cubicBezTo>
                  <a:pt x="800" y="1450"/>
                  <a:pt x="808" y="1413"/>
                  <a:pt x="779" y="1410"/>
                </a:cubicBezTo>
                <a:cubicBezTo>
                  <a:pt x="750" y="1407"/>
                  <a:pt x="694" y="1409"/>
                  <a:pt x="629" y="1389"/>
                </a:cubicBezTo>
                <a:cubicBezTo>
                  <a:pt x="564" y="1369"/>
                  <a:pt x="455" y="1330"/>
                  <a:pt x="389" y="1293"/>
                </a:cubicBezTo>
                <a:cubicBezTo>
                  <a:pt x="323" y="1256"/>
                  <a:pt x="272" y="1207"/>
                  <a:pt x="230" y="1164"/>
                </a:cubicBezTo>
                <a:cubicBezTo>
                  <a:pt x="188" y="1121"/>
                  <a:pt x="163" y="1077"/>
                  <a:pt x="137" y="1038"/>
                </a:cubicBezTo>
                <a:cubicBezTo>
                  <a:pt x="111" y="999"/>
                  <a:pt x="95" y="973"/>
                  <a:pt x="76" y="930"/>
                </a:cubicBezTo>
                <a:cubicBezTo>
                  <a:pt x="57" y="887"/>
                  <a:pt x="35" y="847"/>
                  <a:pt x="23" y="780"/>
                </a:cubicBezTo>
                <a:cubicBezTo>
                  <a:pt x="11" y="713"/>
                  <a:pt x="0" y="615"/>
                  <a:pt x="5" y="525"/>
                </a:cubicBezTo>
                <a:cubicBezTo>
                  <a:pt x="10" y="435"/>
                  <a:pt x="26" y="315"/>
                  <a:pt x="53" y="237"/>
                </a:cubicBezTo>
                <a:cubicBezTo>
                  <a:pt x="80" y="159"/>
                  <a:pt x="143" y="89"/>
                  <a:pt x="167" y="57"/>
                </a:cubicBezTo>
                <a:cubicBezTo>
                  <a:pt x="191" y="25"/>
                  <a:pt x="182" y="38"/>
                  <a:pt x="197" y="45"/>
                </a:cubicBezTo>
                <a:cubicBezTo>
                  <a:pt x="212" y="52"/>
                  <a:pt x="153" y="0"/>
                  <a:pt x="257" y="96"/>
                </a:cubicBezTo>
                <a:cubicBezTo>
                  <a:pt x="361" y="192"/>
                  <a:pt x="728" y="534"/>
                  <a:pt x="821" y="621"/>
                </a:cubicBezTo>
                <a:cubicBezTo>
                  <a:pt x="914" y="708"/>
                  <a:pt x="818" y="597"/>
                  <a:pt x="818" y="621"/>
                </a:cubicBezTo>
                <a:cubicBezTo>
                  <a:pt x="818" y="645"/>
                  <a:pt x="821" y="677"/>
                  <a:pt x="821" y="765"/>
                </a:cubicBezTo>
                <a:cubicBezTo>
                  <a:pt x="821" y="853"/>
                  <a:pt x="819" y="1042"/>
                  <a:pt x="816" y="1149"/>
                </a:cubicBezTo>
                <a:cubicBezTo>
                  <a:pt x="813" y="1256"/>
                  <a:pt x="812" y="1365"/>
                  <a:pt x="806" y="14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094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ing the Precambri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and atmosphere 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ong with other importa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am cooled and condensed into clou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clouds Released precipitation (rain)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ions of years, eventually forming our oc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7"/>
          <a:stretch/>
        </p:blipFill>
        <p:spPr>
          <a:xfrm>
            <a:off x="3276720" y="2438280"/>
            <a:ext cx="12952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8"/>
          <a:stretch/>
        </p:blipFill>
        <p:spPr>
          <a:xfrm>
            <a:off x="838080" y="2438280"/>
            <a:ext cx="1219320" cy="978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9"/>
          <a:stretch/>
        </p:blipFill>
        <p:spPr>
          <a:xfrm>
            <a:off x="1600200" y="1828800"/>
            <a:ext cx="1905120" cy="1832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0"/>
          <a:stretch/>
        </p:blipFill>
        <p:spPr>
          <a:xfrm>
            <a:off x="4114800" y="1828800"/>
            <a:ext cx="1940040" cy="2136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1"/>
          <a:stretch/>
        </p:blipFill>
        <p:spPr>
          <a:xfrm>
            <a:off x="2590920" y="1905120"/>
            <a:ext cx="2631960" cy="4343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-1447920" y="-1981080"/>
            <a:ext cx="10972800" cy="883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2"/>
          <a:stretch/>
        </p:blipFill>
        <p:spPr>
          <a:xfrm>
            <a:off x="9907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76520" y="-457200"/>
            <a:ext cx="525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elcome to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4.6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3699E-006 L -1.25313 0.59654 E">
                                      <p:cBhvr>
                                        <p:cTn id="9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104 0.00231 L 1.29792 0.50404 E">
                                      <p:cBhvr>
                                        <p:cTn id="10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5607E-007 C -0.00191 -0.10497 -0.00469 -0.20948 0.00885 -0.27584 C 0.0224 -0.3422 0.06649 -0.37272 0.0816 -0.39815 E">
                                      <p:cBhvr>
                                        <p:cTn id="155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C 0.00086 -0.09457 0.0033 -0.18983 -0.00764 -0.25734 C -0.01858 -0.32486 -0.05348 -0.37387 -0.06563 -0.40462 E">
                                      <p:cBhvr>
                                        <p:cTn id="158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5607E-007 C -0.00781 -0.05295 -0.01527 -0.10566 -0.01267 -0.14428 C -0.01007 -0.18358 0.01459 -0.20069 0.01615 -0.23399 C 0.01771 -0.26728 0.00018 -0.31538 -0.00295 -0.34335 C -0.00607 -0.37133 -0.00295 -0.39029 -0.00295 -0.40254 E">
                                      <p:cBhvr>
                                        <p:cTn id="161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4191120"/>
            <a:ext cx="937260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762120" y="4191120"/>
            <a:ext cx="10134720" cy="373356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1">
            <a:lum bright="-30000"/>
          </a:blip>
          <a:stretch/>
        </p:blipFill>
        <p:spPr>
          <a:xfrm>
            <a:off x="914400" y="297180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629400" y="-228600"/>
            <a:ext cx="2286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4800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72632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1216080"/>
            <a:ext cx="1479600" cy="2343240"/>
          </a:xfrm>
          <a:custGeom>
            <a:avLst/>
            <a:gdLst/>
            <a:ahLst/>
            <a:rect l="l" t="t" r="r" b="b"/>
            <a:pathLst>
              <a:path w="932" h="1476">
                <a:moveTo>
                  <a:pt x="826" y="1434"/>
                </a:moveTo>
                <a:cubicBezTo>
                  <a:pt x="817" y="1476"/>
                  <a:pt x="812" y="1419"/>
                  <a:pt x="779" y="1412"/>
                </a:cubicBezTo>
                <a:cubicBezTo>
                  <a:pt x="746" y="1405"/>
                  <a:pt x="694" y="1411"/>
                  <a:pt x="629" y="1391"/>
                </a:cubicBezTo>
                <a:cubicBezTo>
                  <a:pt x="564" y="1371"/>
                  <a:pt x="455" y="1332"/>
                  <a:pt x="389" y="1295"/>
                </a:cubicBezTo>
                <a:cubicBezTo>
                  <a:pt x="323" y="1258"/>
                  <a:pt x="272" y="1209"/>
                  <a:pt x="230" y="1166"/>
                </a:cubicBezTo>
                <a:cubicBezTo>
                  <a:pt x="188" y="1123"/>
                  <a:pt x="163" y="1079"/>
                  <a:pt x="137" y="1040"/>
                </a:cubicBezTo>
                <a:cubicBezTo>
                  <a:pt x="111" y="1001"/>
                  <a:pt x="95" y="975"/>
                  <a:pt x="76" y="932"/>
                </a:cubicBezTo>
                <a:cubicBezTo>
                  <a:pt x="57" y="889"/>
                  <a:pt x="35" y="849"/>
                  <a:pt x="23" y="782"/>
                </a:cubicBezTo>
                <a:cubicBezTo>
                  <a:pt x="11" y="715"/>
                  <a:pt x="0" y="617"/>
                  <a:pt x="5" y="527"/>
                </a:cubicBezTo>
                <a:cubicBezTo>
                  <a:pt x="10" y="437"/>
                  <a:pt x="26" y="317"/>
                  <a:pt x="53" y="239"/>
                </a:cubicBezTo>
                <a:cubicBezTo>
                  <a:pt x="80" y="161"/>
                  <a:pt x="143" y="91"/>
                  <a:pt x="167" y="59"/>
                </a:cubicBezTo>
                <a:cubicBezTo>
                  <a:pt x="191" y="27"/>
                  <a:pt x="182" y="40"/>
                  <a:pt x="197" y="47"/>
                </a:cubicBezTo>
                <a:cubicBezTo>
                  <a:pt x="212" y="54"/>
                  <a:pt x="150" y="0"/>
                  <a:pt x="257" y="98"/>
                </a:cubicBezTo>
                <a:cubicBezTo>
                  <a:pt x="364" y="196"/>
                  <a:pt x="746" y="546"/>
                  <a:pt x="839" y="633"/>
                </a:cubicBezTo>
                <a:cubicBezTo>
                  <a:pt x="932" y="720"/>
                  <a:pt x="819" y="602"/>
                  <a:pt x="818" y="623"/>
                </a:cubicBezTo>
                <a:cubicBezTo>
                  <a:pt x="817" y="644"/>
                  <a:pt x="832" y="669"/>
                  <a:pt x="835" y="758"/>
                </a:cubicBezTo>
                <a:cubicBezTo>
                  <a:pt x="838" y="847"/>
                  <a:pt x="837" y="1047"/>
                  <a:pt x="835" y="1160"/>
                </a:cubicBezTo>
                <a:cubicBezTo>
                  <a:pt x="833" y="1273"/>
                  <a:pt x="835" y="1392"/>
                  <a:pt x="826" y="1434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2666880" y="1905120"/>
            <a:ext cx="2362320" cy="4343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71600" y="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gas given off by volca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Carbon Dioxide (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microscopic phytoplank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orbed 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volcanoes and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synthesis released Oxygen (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 our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3808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important event dur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mbrian was the appea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first single celled forms o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80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phytoplankton were very impor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they helped create an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 atmosphere for life to thr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808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2 billion years ago, primitive micr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le celled forms of life ca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toplankton began to fill the oc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ember the re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hotosynthesi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38862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2590920"/>
            <a:ext cx="2286000" cy="8380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929600">
            <a:off x="3584160" y="2870280"/>
            <a:ext cx="1363680" cy="167616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77777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1905120"/>
            <a:ext cx="2133360" cy="8380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39625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4038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rot="8685000">
            <a:off x="4570560" y="2666160"/>
            <a:ext cx="1523880" cy="167652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Oxygen fill our atmospher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kies eventually became B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61200" y="2129760"/>
            <a:ext cx="6505920" cy="4728240"/>
            <a:chOff x="961200" y="2129760"/>
            <a:chExt cx="6505920" cy="4728240"/>
          </a:xfrm>
        </p:grpSpPr>
        <p:pic>
          <p:nvPicPr>
            <p:cNvPr id="250" name="" descr=""/>
            <p:cNvPicPr/>
            <p:nvPr/>
          </p:nvPicPr>
          <p:blipFill>
            <a:blip r:embed="rId16"/>
            <a:srcRect l="0" t="0" r="42003" b="49643"/>
            <a:stretch/>
          </p:blipFill>
          <p:spPr>
            <a:xfrm rot="20371200">
              <a:off x="1371240" y="2610000"/>
              <a:ext cx="327636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7"/>
            <a:stretch/>
          </p:blipFill>
          <p:spPr>
            <a:xfrm>
              <a:off x="4419360" y="3828960"/>
              <a:ext cx="30286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267080" y="3753000"/>
              <a:ext cx="3200040" cy="2895480"/>
            </a:xfrm>
            <a:prstGeom prst="donut">
              <a:avLst>
                <a:gd name="adj" fmla="val 8300"/>
              </a:avLst>
            </a:pr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-0.00486 C -0.01823 -0.03076 -0.00486 -0.11376 -0.00539 -0.16047 C -0.00591 -0.20717 -0.02049 -0.25919 -0.02448 -0.28509 E">
                                      <p:cBhvr>
                                        <p:cTn id="24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58382E-006 C -0.00104 -0.05873 0.01858 -0.12324 -0.00764 -0.1711 C -0.03385 -0.21896 -0.12604 -0.26289 -0.15729 -0.28717 E">
                                      <p:cBhvr>
                                        <p:cTn id="24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4.68208E-006 C -0.00122 -0.02612 0.00833 -0.10682 -0.00695 -0.15676 C -0.02223 -0.2067 -0.07361 -0.27052 -0.09115 -0.30034 E">
                                      <p:cBhvr>
                                        <p:cTn id="24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33333E-006 4.50867E-006 C -0.00816 -0.0259 -0.02378 -0.11145 -0.04913 -0.15469 C -0.07448 -0.19792 -0.1309 -0.23815 -0.15243 -0.26012 E">
                                      <p:cBhvr>
                                        <p:cTn id="27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2.02312E-006 C -0.00486 -0.05757 -0.02118 -0.11052 -0.03489 -0.15861 C -0.04861 -0.2067 -0.07257 -0.26173 -0.08246 -0.2887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3.75723E-006 C -0.00486 -0.05757 -0.0342 -0.11237 -0.03489 -0.15861 C -0.03559 -0.20485 -0.01093 -0.25294 -0.00468 -0.27768 E">
                                      <p:cBhvr>
                                        <p:cTn id="27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id our atmosphere become rich in oxy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 phytoplankton and algae bacteria called stromatolites released oxygen into our atmosphere through _____ about 2 by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4:30:22Z</dcterms:created>
  <dc:creator> john swanson</dc:creator>
  <dc:description/>
  <dc:language>en-US</dc:language>
  <cp:lastModifiedBy>jfuller</cp:lastModifiedBy>
  <dcterms:modified xsi:type="dcterms:W3CDTF">2012-04-13T16:12:21Z</dcterms:modified>
  <cp:revision>97</cp:revision>
  <dc:subject/>
  <dc:title>Geologic History</dc:title>
</cp:coreProperties>
</file>